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47.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6.png" ContentType="image/png"/>
  <Override PartName="/ppt/media/image36.png" ContentType="image/png"/>
  <Override PartName="/ppt/media/image48.jpeg" ContentType="image/jpeg"/>
  <Override PartName="/ppt/media/image42.jpeg" ContentType="image/jpeg"/>
  <Override PartName="/ppt/media/image45.jpeg" ContentType="image/jpeg"/>
  <Override PartName="/ppt/media/image46.jpeg" ContentType="image/jpeg"/>
  <Override PartName="/ppt/media/image50.png" ContentType="image/png"/>
  <Override PartName="/ppt/media/image12.jpeg" ContentType="image/jpeg"/>
  <Override PartName="/ppt/media/image52.jpeg" ContentType="image/jpeg"/>
  <Override PartName="/ppt/media/image53.png" ContentType="image/png"/>
  <Override PartName="/ppt/media/image54.jpeg" ContentType="image/jpeg"/>
  <Override PartName="/ppt/media/image49.jpeg" ContentType="image/jpeg"/>
  <Override PartName="/ppt/media/image55.jpeg" ContentType="image/jpeg"/>
  <Override PartName="/ppt/media/image56.png" ContentType="image/png"/>
  <Override PartName="/ppt/media/image57.jpeg" ContentType="image/jpeg"/>
  <Override PartName="/ppt/media/image37.png" ContentType="image/png"/>
  <Override PartName="/ppt/media/image34.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44.png" ContentType="image/png"/>
  <Override PartName="/ppt/media/image13.jpeg" ContentType="image/jpeg"/>
  <Override PartName="/ppt/media/image28.jpeg" ContentType="image/jpeg"/>
  <Override PartName="/ppt/media/image51.jpeg" ContentType="image/jpeg"/>
  <Override PartName="/ppt/media/image7.jpeg" ContentType="image/jpeg"/>
  <Override PartName="/ppt/media/image3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DAD05-B2A7-4704-9094-5C4AF0AC5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1FEA-AA95-49B6-98D4-318BC03E8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A8EAB-B5EF-42A6-BE62-B8419C0DF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3C1C63-FD26-4997-BFA8-43FC0CBFA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1422F1-2081-40C7-9E63-CFC83E796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E6297C-2CC1-47B0-84DB-FEEC72E86C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10302-A891-48A4-B33B-994CB374C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E62AED-FA0C-4059-972A-3DB517DF3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E82107-37E2-4D92-BB75-8DE0648B0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7E1241-25D4-4709-A7C6-6AF92EBB0A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A10130-A47A-45D4-A09F-66B3B2409C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A84DE-4E8B-494A-99C6-F0E13169E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79B03-F5A8-49C9-B793-33BBB63CC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9E60E-D736-4BB6-818B-D9EBB18BF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3636D-F5D3-491A-8DCE-7E745FFA0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3DE0D-C131-41A6-97DB-B712AB991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3D142-0E2B-4547-9947-7E20B0529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F0492-B485-486C-AC26-574D6A529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9CCC4-B4CB-4351-A01D-60E924FFA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09C5-6B57-4D18-8D19-42D9EF6F0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1027-DFED-440D-B738-7B75005D7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49DD3-0F13-4070-B769-0A5D8FD8E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C047A-9AE7-4DE1-8E0D-ECEBD3BD4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9F049-3D9D-449F-918D-07C7C4753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F4ED1-C4C2-48CF-9986-93769EBA1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58604-27D6-43F7-8ED3-6D9C23EBA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CE8A0-4426-4FDB-924A-42246AA0D4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C9045-F1D7-4FC4-8921-38C05FC7F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78506-E447-4BCD-BCE3-3484F72BC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9441B-D6B6-4281-8C7A-B63ABCE9B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F21A0-B786-4F1D-A9A6-A0648DFA1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272C-A851-4512-B41A-B01418C5D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5E741-EBCD-4562-8DFB-406AD06C8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7CB9B-43A2-445D-A311-7759E5C7E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D436B-EDDF-412A-A3D6-1B943C42D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7F308-182A-4588-B0CA-0BA6C905A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A352C-6DE5-4979-B4D8-D5AED731A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B8362-E2E2-4D10-9DDA-9AAEBA91EA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38203-62BD-423D-8F91-59AD9B145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A1A6C1-2B5D-431F-BF89-5DE96A164E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D37F2-18A1-4DF9-AE04-3F0D766F66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392EA-B884-42DA-9A92-45B0CA09F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E81F-E520-487F-94C5-8C99DCE44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04083-96D3-4A13-8D3A-90BBFC075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82DC4-A545-43B6-8C56-C3A848135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453B0-14D6-4D98-B2B2-5F1FA6ED7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A5923-70E6-4364-98F4-E260F5A37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977F1-F4E2-4D2B-98F1-FA477CF99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5E020-F07D-48BE-A1D5-8D0024DB7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62175-6657-4048-960C-8981A1D75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662C1-A2EF-4AD6-B823-290CD2F03B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780A07-395F-44AA-81CC-C866281729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EBC5B-09FC-4AB3-8362-41E7B3F31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D034-8DB7-4E1D-BF4F-26805332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B1670-5636-4B9F-B779-B9CA0C40D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23BA5-83E9-4AC5-A5E5-C6DC7A2973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8B9E8-7A6F-4D0D-B411-93A27032E7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01A88-E510-4953-911C-32A4C6035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CA80D-6442-4950-B2F2-8460B22F1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C7096-164C-4571-9BB8-453041137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46864-68D6-4546-9C40-CF1F61DE7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42393-1140-4069-B34E-A43EE712D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EFB15-93C7-419A-A662-44FDF05C3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1BF75B-1D64-4DEE-994C-8C49E45FC4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C4F0-7024-4E98-8099-C7B0B80C4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F25A6C-9F78-4EE4-B745-792C8D61EE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08312-86AF-4A0A-92CA-9CD24235A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61E80-C1A7-479F-A75C-6313EED2C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1F875-9F22-441B-8674-710DA64D1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187F4-7BD5-4F59-BC1B-3AC8E808A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78582-6920-461F-88EE-C1CC6E408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980B2-14AF-454A-B761-C13661B3D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0B744-160A-4245-9A77-C749D05F0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25ED6-3EDA-461E-BDCE-EB356E8A7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72AF4-6020-47FE-A2DC-6DDD63424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1CDF9-B84C-4764-9DDF-A4F521B3B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77442-6809-4577-8201-E9AF8F6D4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E21880-86CA-42EE-A04D-D0F0629852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23016C-AF87-4AB7-B416-A91B32E3D7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CA4C66-CFDA-40A7-8811-FD3091332A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F14E4-161B-45F6-815D-305A9EDFA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4D754-1EB8-486F-8DC2-966ECAA06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BC991B-3875-4236-88D3-D01B67D56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6E4DEF-EDC5-4572-A9DA-307FF38F4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ECE9FC-46C4-40FD-A2F5-B74EFD7AF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A2819-1241-4DBA-B2DE-582DCBC65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7EA78-EE08-43A6-83C1-FC7814D4B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AAB2C-5C8E-40E7-89F1-FD221C7DD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D86BB-0BD0-46CA-9CD0-2D8FACBA1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C714FC-7984-40AA-8BE4-F8B4F8F5D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98AC19-8FDF-48D7-B755-04AA437C09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0D726C-4847-480B-86EB-D0D4578D6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4F514E-DFC4-4F2E-990F-C62012C50C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48A6ED-D852-45BA-BC17-41A609D182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0A2F5-B8F4-4718-8F4F-ADBDBD0F1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E9B73-97D4-49BC-99EF-1D8C28CDE1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8EBE92-79CB-4DD2-BFE4-5058C55B3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2D1CF-6927-456B-AEB0-1FD31D2F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3C927-38C3-481D-8B06-B1B79A49F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E3512-1FBF-4CC2-A1C8-C90F84766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FD836-E3CD-46B6-8E80-53E240F75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EC234-C027-4F5F-A1C7-F1F1A6BBB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96F4C-EC43-4809-ABC1-B02F12BB5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545903-5820-40B4-8E62-C35CD116C1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8AA33-B79F-4944-B2E2-3AB751248E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CECC1B-945E-425F-9BBB-E4AD0B7846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7AF2A-B2A5-4EB1-AFDA-96E98DC96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DB28DA-FCC8-482F-9B72-7A24FFCEBE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аво съединение 6"/>
          <p:cNvGrpSpPr/>
          <p:nvPr/>
        </p:nvGrpSpPr>
        <p:grpSpPr>
          <a:xfrm>
            <a:off x="512640" y="1042920"/>
            <a:ext cx="8631360" cy="17640"/>
            <a:chOff x="512640" y="1042920"/>
            <a:chExt cx="8631360" cy="17640"/>
          </a:xfrm>
        </p:grpSpPr>
        <p:pic>
          <p:nvPicPr>
            <p:cNvPr id="1" name="Право съединение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A367-7DDE-4816-B3B8-E8E195FE6EB9}"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grpSp>
        <p:nvGrpSpPr>
          <p:cNvPr id="8" name="Право съединение 8"/>
          <p:cNvGrpSpPr/>
          <p:nvPr/>
        </p:nvGrpSpPr>
        <p:grpSpPr>
          <a:xfrm>
            <a:off x="512640" y="1042920"/>
            <a:ext cx="8631360" cy="17640"/>
            <a:chOff x="512640" y="1042920"/>
            <a:chExt cx="8631360" cy="17640"/>
          </a:xfrm>
        </p:grpSpPr>
        <p:pic>
          <p:nvPicPr>
            <p:cNvPr id="9" name="Право съединение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аво съединение 11"/>
          <p:cNvGrpSpPr/>
          <p:nvPr/>
        </p:nvGrpSpPr>
        <p:grpSpPr>
          <a:xfrm>
            <a:off x="512640" y="1054080"/>
            <a:ext cx="8631360" cy="12600"/>
            <a:chOff x="512640" y="1054080"/>
            <a:chExt cx="8631360" cy="12600"/>
          </a:xfrm>
        </p:grpSpPr>
        <p:pic>
          <p:nvPicPr>
            <p:cNvPr id="12" name="Право съединение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аво съединение 6"/>
          <p:cNvGrpSpPr/>
          <p:nvPr/>
        </p:nvGrpSpPr>
        <p:grpSpPr>
          <a:xfrm>
            <a:off x="512640" y="5346720"/>
            <a:ext cx="8631360" cy="11160"/>
            <a:chOff x="512640" y="5346720"/>
            <a:chExt cx="8631360" cy="11160"/>
          </a:xfrm>
        </p:grpSpPr>
        <p:pic>
          <p:nvPicPr>
            <p:cNvPr id="51" name="Право съединение 6"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7753-DBB7-470E-A605-E5B65D4B535D}"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аво съединение 6"/>
          <p:cNvGrpSpPr/>
          <p:nvPr/>
        </p:nvGrpSpPr>
        <p:grpSpPr>
          <a:xfrm>
            <a:off x="512640" y="1042920"/>
            <a:ext cx="8631360" cy="17640"/>
            <a:chOff x="512640" y="1042920"/>
            <a:chExt cx="8631360" cy="17640"/>
          </a:xfrm>
        </p:grpSpPr>
        <p:pic>
          <p:nvPicPr>
            <p:cNvPr id="95" name="Право съединение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аво съединение 8"/>
          <p:cNvGrpSpPr/>
          <p:nvPr/>
        </p:nvGrpSpPr>
        <p:grpSpPr>
          <a:xfrm>
            <a:off x="512640" y="1042920"/>
            <a:ext cx="8631360" cy="17640"/>
            <a:chOff x="512640" y="1042920"/>
            <a:chExt cx="8631360" cy="17640"/>
          </a:xfrm>
        </p:grpSpPr>
        <p:pic>
          <p:nvPicPr>
            <p:cNvPr id="98" name="Право съединение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аво съединение 11"/>
          <p:cNvGrpSpPr/>
          <p:nvPr/>
        </p:nvGrpSpPr>
        <p:grpSpPr>
          <a:xfrm>
            <a:off x="512640" y="1054080"/>
            <a:ext cx="8631360" cy="12600"/>
            <a:chOff x="512640" y="1054080"/>
            <a:chExt cx="8631360" cy="12600"/>
          </a:xfrm>
        </p:grpSpPr>
        <p:pic>
          <p:nvPicPr>
            <p:cNvPr id="101" name="Право съединение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9DA2-79D4-4FFC-8C48-D5BD596CD216}"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аво съединение 6"/>
          <p:cNvGrpSpPr/>
          <p:nvPr/>
        </p:nvGrpSpPr>
        <p:grpSpPr>
          <a:xfrm>
            <a:off x="512640" y="3438360"/>
            <a:ext cx="8631360" cy="11160"/>
            <a:chOff x="512640" y="3438360"/>
            <a:chExt cx="8631360" cy="11160"/>
          </a:xfrm>
        </p:grpSpPr>
        <p:pic>
          <p:nvPicPr>
            <p:cNvPr id="145" name="Право съединение 6"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Click to edit the outline text format</a:t>
            </a:r>
            <a:endParaRPr b="0" lang="en-US" sz="3200" spc="-1" strike="noStrike">
              <a:solidFill>
                <a:srgbClr val="e7dec9"/>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cond Outline Level</a:t>
            </a:r>
            <a:endParaRPr b="0" lang="en-US" sz="3200" spc="-1" strike="noStrike">
              <a:solidFill>
                <a:srgbClr val="e7dec9"/>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Third Outline Level</a:t>
            </a:r>
            <a:endParaRPr b="0" lang="en-US" sz="3200" spc="-1" strike="noStrike">
              <a:solidFill>
                <a:srgbClr val="e7dec9"/>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ourth Outline Level</a:t>
            </a:r>
            <a:endParaRPr b="0" lang="en-US" sz="3200" spc="-1" strike="noStrike">
              <a:solidFill>
                <a:srgbClr val="e7dec9"/>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ifth Outline Level</a:t>
            </a:r>
            <a:endParaRPr b="0" lang="en-US" sz="3200" spc="-1" strike="noStrike">
              <a:solidFill>
                <a:srgbClr val="e7d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ixth Outline Level</a:t>
            </a:r>
            <a:endParaRPr b="0" lang="en-US" sz="3200" spc="-1" strike="noStrike">
              <a:solidFill>
                <a:srgbClr val="e7d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venth Outline Level</a:t>
            </a:r>
            <a:endParaRPr b="0" lang="en-US" sz="3200" spc="-1" strike="noStrike">
              <a:solidFill>
                <a:srgbClr val="e7d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dec9"/>
                </a:solidFill>
                <a:latin typeface="Franklin Gothic Medium"/>
              </a:rPr>
              <a:t>Click to edit the title text format</a:t>
            </a:r>
            <a:endParaRPr b="0" lang="en-US" sz="3600" spc="-1" strike="noStrike">
              <a:solidFill>
                <a:srgbClr val="e7d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8D32-A316-4638-B03F-CC3239193776}"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аво съединение 10"/>
          <p:cNvGrpSpPr/>
          <p:nvPr/>
        </p:nvGrpSpPr>
        <p:grpSpPr>
          <a:xfrm>
            <a:off x="512640" y="6016680"/>
            <a:ext cx="8631360" cy="12600"/>
            <a:chOff x="512640" y="6016680"/>
            <a:chExt cx="8631360" cy="12600"/>
          </a:xfrm>
        </p:grpSpPr>
        <p:pic>
          <p:nvPicPr>
            <p:cNvPr id="189" name="Право съединение 10"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D2C5-ABDE-4F29-91BB-007F888E3643}"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2B06-B3DC-4A98-8CA2-42D33604CE54}"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аво съединение 7"/>
          <p:cNvGrpSpPr/>
          <p:nvPr/>
        </p:nvGrpSpPr>
        <p:grpSpPr>
          <a:xfrm>
            <a:off x="512640" y="5846760"/>
            <a:ext cx="8631360" cy="11160"/>
            <a:chOff x="512640" y="5846760"/>
            <a:chExt cx="8631360" cy="11160"/>
          </a:xfrm>
        </p:grpSpPr>
        <p:pic>
          <p:nvPicPr>
            <p:cNvPr id="274" name="Право съединение 7"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5E89-D6F9-4A7E-B7B6-49935A0BB40A}"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0E1C-88AC-467C-91A8-662C24AB2D73}"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CCE0-3317-45AD-8123-97DB8C4CFCF8}"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allpainters.info/wp-content/uploads/2011/08/&#1056;&#1091;&#1073;&#1077;&#1085;&#1089;.jpg"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www.zabriskiegallery.com/KIKI%202002/autoportrait.JPG" TargetMode="External"/><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podkofeek.ru/plugins/content/jumultithumb/img.php?src=Li4vLi4vLi4vaW1hZ2VzL3N0b3JpZXMvZXNwcmVzc28vNTQ4LzAzLmpwZyZhbXA7dz03MTUmYW1wO2g9MCZhbXA7cT05MA==" TargetMode="External"/><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hyperlink" Target="http://podkofeek.ru/plugins/content/jumultithumb/img.php?src=Li4vLi4vLi4vaW1hZ2VzL3N0b3JpZXMvZXNwcmVzc28vNTQ4LzA4LmpwZyZhbXA7dz03MTUmYW1wO2g9MCZhbXA7cT05MA==" TargetMode="External"/><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upload.wikimedia.org/wikipedia/commons/thumb/7/7e/Amadeo_Modigliani_027.jpg/374px-Amadeo_Modigliani_027.jpg" TargetMode="External"/><Relationship Id="rId2" Type="http://schemas.openxmlformats.org/officeDocument/2006/relationships/image" Target="../media/image42.jpeg"/><Relationship Id="rId3" Type="http://schemas.openxmlformats.org/officeDocument/2006/relationships/hyperlink" Target="http://podkofeek.ru/plugins/content/jumultithumb/img.php?src=Li4vLi4vLi4vaW1hZ2VzL3N0b3JpZXMvZXNwcmVzc28vNTQ4LzA5LmpwZyZhbXA7dz03MTUmYW1wO2g9MCZhbXA7cT05MA==" TargetMode="External"/><Relationship Id="rId4" Type="http://schemas.openxmlformats.org/officeDocument/2006/relationships/image" Target="../media/image43.jpe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hyperlink" Target="http://podkofeek.ru/plugins/content/jumultithumb/img.php?src=Li4vLi4vLi4vaW1hZ2VzL3N0b3JpZXMvZXNwcmVzc28vNTQ4LzE2LmpwZyZhbXA7dz03MTUmYW1wO2g9MCZhbXA7cT05MA==" TargetMode="External"/><Relationship Id="rId2" Type="http://schemas.openxmlformats.org/officeDocument/2006/relationships/image" Target="../media/image45.jpeg"/><Relationship Id="rId3" Type="http://schemas.openxmlformats.org/officeDocument/2006/relationships/hyperlink" Target="http://podkofeek.ru/plugins/content/jumultithumb/img.php?src=Li4vLi4vLi4vaW1hZ2VzL3N0b3JpZXMvZXNwcmVzc28vNTQ4LzE3LmpwZyZhbXA7dz03MTUmYW1wO2g9MCZhbXA7cT05MA==" TargetMode="External"/><Relationship Id="rId4" Type="http://schemas.openxmlformats.org/officeDocument/2006/relationships/image" Target="../media/image46.jpe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youtube.com/watch?v=SiirmAwe1c8" TargetMode="External"/><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Заглавие 1" descr=""/>
          <p:cNvPicPr/>
          <p:nvPr/>
        </p:nvPicPr>
        <p:blipFill>
          <a:blip r:embed="rId1"/>
          <a:stretch/>
        </p:blipFill>
        <p:spPr>
          <a:xfrm>
            <a:off x="-49320" y="3578400"/>
            <a:ext cx="1082700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360" y="765000"/>
            <a:ext cx="8229600" cy="4896000"/>
          </a:xfrm>
          <a:prstGeom prst="rect">
            <a:avLst/>
          </a:prstGeom>
          <a:noFill/>
          <a:ln w="0">
            <a:noFill/>
          </a:ln>
        </p:spPr>
        <p:txBody>
          <a:bodyPr lIns="90000" rIns="90000" tIns="46800" bIns="46800"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4f271c"/>
                </a:solidFill>
                <a:latin typeface="Franklin Gothic Book"/>
              </a:rPr>
              <a:t>        </a:t>
            </a:r>
            <a:br>
              <a:rPr sz="2500"/>
            </a:br>
            <a:r>
              <a:rPr b="0" lang="bg-BG" sz="2500" spc="-1" strike="noStrike">
                <a:solidFill>
                  <a:srgbClr val="4f271c"/>
                </a:solidFill>
                <a:latin typeface="Franklin Gothic Book"/>
              </a:rPr>
              <a:t>    </a:t>
            </a:r>
            <a:r>
              <a:rPr b="0" lang="bg-BG" sz="2500" spc="-1" strike="noStrike">
                <a:solidFill>
                  <a:srgbClr val="4f271c"/>
                </a:solidFill>
                <a:latin typeface="Franklin Gothic Book"/>
              </a:rPr>
              <a:t>Но настъпва зимата, а с нея и нов, по-тежък пристъп на туберкулозата. Вместо да пази здравето си, Модилиани продължава самоубийствения си начин на живот, отчаян от пренебрежението към картините, които представя на Есенния салон в Париж. Но съществува и легенда, според която преди да умре, призовал жена си да го последва и в смъртта. Два дни по-късно издъхва. </a:t>
            </a:r>
            <a:br>
              <a:rPr sz="2500"/>
            </a:br>
            <a:r>
              <a:rPr b="0" lang="bg-BG" sz="2500" spc="-1" strike="noStrike">
                <a:solidFill>
                  <a:srgbClr val="4f271c"/>
                </a:solidFill>
                <a:latin typeface="Franklin Gothic Book"/>
              </a:rPr>
              <a:t>Според очевидци, в деня на погребението (27 януари) Жана се намирала на границата на отчаянието, но не плачела, а през цялото време мълчала. На следващата сутрин се самоубива бременна в 8-ия месец, хвърляйки се от шестия етаж.  </a:t>
            </a:r>
            <a:endParaRPr b="0" lang="en-US" sz="2500" spc="-1" strike="noStrike">
              <a:solidFill>
                <a:srgbClr val="4f271c"/>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Картина 3" descr="images.jpg"/>
          <p:cNvPicPr/>
          <p:nvPr/>
        </p:nvPicPr>
        <p:blipFill>
          <a:blip r:embed="rId1"/>
          <a:stretch/>
        </p:blipFill>
        <p:spPr>
          <a:xfrm>
            <a:off x="395280" y="765000"/>
            <a:ext cx="4173480" cy="5472360"/>
          </a:xfrm>
          <a:prstGeom prst="rect">
            <a:avLst/>
          </a:prstGeom>
          <a:ln w="0">
            <a:noFill/>
          </a:ln>
        </p:spPr>
      </p:pic>
      <p:pic>
        <p:nvPicPr>
          <p:cNvPr id="413" name="Картина 4" descr="imageshh.jpg"/>
          <p:cNvPicPr/>
          <p:nvPr/>
        </p:nvPicPr>
        <p:blipFill>
          <a:blip r:embed="rId2"/>
          <a:stretch/>
        </p:blipFill>
        <p:spPr>
          <a:xfrm>
            <a:off x="5003640" y="274680"/>
            <a:ext cx="3529080" cy="599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лавие 1" descr=""/>
          <p:cNvPicPr/>
          <p:nvPr/>
        </p:nvPicPr>
        <p:blipFill>
          <a:blip r:embed="rId1"/>
          <a:stretch/>
        </p:blipFill>
        <p:spPr>
          <a:xfrm>
            <a:off x="231840" y="476280"/>
            <a:ext cx="8394480" cy="938160"/>
          </a:xfrm>
          <a:prstGeom prst="rect">
            <a:avLst/>
          </a:prstGeom>
          <a:ln w="0">
            <a:noFill/>
          </a:ln>
        </p:spPr>
      </p:pic>
      <p:pic>
        <p:nvPicPr>
          <p:cNvPr id="415" name="Картина 3" descr="Рубенс">
            <a:hlinkClick r:id="rId2"/>
          </p:cNvPr>
          <p:cNvPicPr/>
          <p:nvPr/>
        </p:nvPicPr>
        <p:blipFill>
          <a:blip r:embed="rId3"/>
          <a:stretch/>
        </p:blipFill>
        <p:spPr>
          <a:xfrm>
            <a:off x="2268360" y="1268280"/>
            <a:ext cx="446436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68360" y="764640"/>
            <a:ext cx="8229600" cy="5505480"/>
          </a:xfrm>
          <a:prstGeom prst="rect">
            <a:avLst/>
          </a:prstGeom>
          <a:noFill/>
          <a:ln w="0">
            <a:noFill/>
          </a:ln>
        </p:spPr>
        <p:txBody>
          <a:bodyPr lIns="90000" rIns="90000" tIns="46800" bIns="46800"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br>
              <a:rPr sz="2700"/>
            </a:br>
            <a:r>
              <a:rPr b="0" lang="bg-BG" sz="2700" spc="-1" strike="noStrike">
                <a:solidFill>
                  <a:srgbClr val="4f271c"/>
                </a:solidFill>
                <a:latin typeface="Franklin Gothic Book"/>
              </a:rPr>
              <a:t>   </a:t>
            </a:r>
            <a:r>
              <a:rPr b="0" lang="bg-BG" sz="2700" spc="-1" strike="noStrike">
                <a:solidFill>
                  <a:srgbClr val="4f271c"/>
                </a:solidFill>
                <a:latin typeface="Franklin Gothic Book"/>
              </a:rPr>
              <a:t>Фламандски художник от бароковия период. По време на обучението и работата си в Италия </a:t>
            </a:r>
            <a:r>
              <a:rPr b="1" lang="bg-BG" sz="2700" spc="-1" strike="noStrike">
                <a:solidFill>
                  <a:srgbClr val="4f271c"/>
                </a:solidFill>
                <a:latin typeface="Franklin Gothic Book"/>
              </a:rPr>
              <a:t>Рубенс</a:t>
            </a:r>
            <a:r>
              <a:rPr b="0" lang="bg-BG" sz="2700" spc="-1" strike="noStrike">
                <a:solidFill>
                  <a:srgbClr val="4f271c"/>
                </a:solidFill>
                <a:latin typeface="Franklin Gothic Book"/>
              </a:rPr>
              <a:t> има много любовни увлечения с италиански актриси, но и връзки с проститутки. Първата му сериозна любовна история е с една римска аристократка, чието име остава неизвестно. Предполага се, че нейните родители са сложили край на тяхната история, тъй като не са искали дъщеря им да се омъжи за неизвестния художник, при това чужденец.  От брака им се раждат три деца, а по-късно осиновяват и двете деца на брата на </a:t>
            </a:r>
            <a:r>
              <a:rPr b="1" lang="bg-BG" sz="2700" spc="-1" strike="noStrike">
                <a:solidFill>
                  <a:srgbClr val="4f271c"/>
                </a:solidFill>
                <a:latin typeface="Franklin Gothic Book"/>
              </a:rPr>
              <a:t>Рубенс</a:t>
            </a:r>
            <a:r>
              <a:rPr b="0" lang="bg-BG" sz="2700" spc="-1" strike="noStrike">
                <a:solidFill>
                  <a:srgbClr val="4f271c"/>
                </a:solidFill>
                <a:latin typeface="Franklin Gothic Book"/>
              </a:rPr>
              <a:t>, осиротели след неговата смърт Изабела, по всяка вероятност, е била модел за Рубенсовите мадони. Тя умира на 35 годишна възраст, което силно опечалява нейния съпруг. </a:t>
            </a: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68360" y="1052280"/>
            <a:ext cx="8229600" cy="5505480"/>
          </a:xfrm>
          <a:prstGeom prst="rect">
            <a:avLst/>
          </a:prstGeom>
          <a:noFill/>
          <a:ln w="0">
            <a:noFill/>
          </a:ln>
        </p:spPr>
        <p:txBody>
          <a:bodyPr lIns="90000" rIns="90000" tIns="46800" bIns="46800" anchor="t">
            <a:normAutofit fontScale="91000"/>
          </a:bodyPr>
          <a:p>
            <a:pPr marL="312120" indent="-312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Въпреки това обаче художникът започва любовна връзка с красивата Сюзън Фурман, която е била негов модел за прочутата му картина “Сламената шапка” . ”. Връзката им продължава една година и приключва след Две години по-късно, 53-годишният </a:t>
            </a:r>
            <a:r>
              <a:rPr b="1" lang="bg-BG" sz="3000" spc="-1" strike="noStrike">
                <a:solidFill>
                  <a:srgbClr val="4f271c"/>
                </a:solidFill>
                <a:latin typeface="Franklin Gothic Book"/>
              </a:rPr>
              <a:t>Рубенс</a:t>
            </a:r>
            <a:r>
              <a:rPr b="0" lang="bg-BG" sz="3000" spc="-1" strike="noStrike">
                <a:solidFill>
                  <a:srgbClr val="4f271c"/>
                </a:solidFill>
                <a:latin typeface="Franklin Gothic Book"/>
              </a:rPr>
              <a:t> се жени за 16-годишната сестра на Сюзън, Елена. Тя се отличавала с ослепителна красота, и той обожава да я рисува. Елена се е отличавала с цветущо здраве и великолепно тяло. Изобразена е в много произведения на художника и е прототип на това, което се нарича “рубенсова жена.”  </a:t>
            </a: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Картина 3" descr="The_Three_Graces,_by_Peter_Paul_Rubens,_from_Prado_in_Google_Earth.jpg"/>
          <p:cNvPicPr/>
          <p:nvPr/>
        </p:nvPicPr>
        <p:blipFill>
          <a:blip r:embed="rId1"/>
          <a:stretch/>
        </p:blipFill>
        <p:spPr>
          <a:xfrm>
            <a:off x="1835280" y="260280"/>
            <a:ext cx="5207040" cy="6350040"/>
          </a:xfrm>
          <a:prstGeom prst="rect">
            <a:avLst/>
          </a:prstGeom>
          <a:ln w="0">
            <a:noFill/>
          </a:ln>
        </p:spPr>
      </p:pic>
      <p:sp>
        <p:nvSpPr>
          <p:cNvPr id="419" name="Текстово поле 4"/>
          <p:cNvSpPr/>
          <p:nvPr/>
        </p:nvSpPr>
        <p:spPr>
          <a:xfrm>
            <a:off x="2556000" y="3284640"/>
            <a:ext cx="60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800" spc="-1" strike="noStrike">
                <a:solidFill>
                  <a:srgbClr val="000000"/>
                </a:solidFill>
                <a:latin typeface="Franklin Gothic Book"/>
              </a:rPr>
              <a:t>Трите грации</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Картина 3" descr="kartina_gradinata_na_ljubovta.jpg"/>
          <p:cNvPicPr/>
          <p:nvPr/>
        </p:nvPicPr>
        <p:blipFill>
          <a:blip r:embed="rId1"/>
          <a:stretch/>
        </p:blipFill>
        <p:spPr>
          <a:xfrm>
            <a:off x="395280" y="765000"/>
            <a:ext cx="8388360" cy="5764320"/>
          </a:xfrm>
          <a:prstGeom prst="rect">
            <a:avLst/>
          </a:prstGeom>
          <a:ln w="0">
            <a:noFill/>
          </a:ln>
        </p:spPr>
      </p:pic>
      <p:sp>
        <p:nvSpPr>
          <p:cNvPr id="421" name="Текстово поле 4"/>
          <p:cNvSpPr/>
          <p:nvPr/>
        </p:nvSpPr>
        <p:spPr>
          <a:xfrm>
            <a:off x="2124000" y="189000"/>
            <a:ext cx="59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0000"/>
                </a:solidFill>
                <a:latin typeface="Franklin Gothic Book"/>
              </a:rPr>
              <a:t>Градината на любовта</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лавие 1" descr=""/>
          <p:cNvPicPr/>
          <p:nvPr/>
        </p:nvPicPr>
        <p:blipFill>
          <a:blip r:embed="rId1"/>
          <a:stretch/>
        </p:blipFill>
        <p:spPr>
          <a:xfrm>
            <a:off x="109440" y="457200"/>
            <a:ext cx="8882280" cy="1000080"/>
          </a:xfrm>
          <a:prstGeom prst="rect">
            <a:avLst/>
          </a:prstGeom>
          <a:ln w="0">
            <a:noFill/>
          </a:ln>
        </p:spPr>
      </p:pic>
      <p:pic>
        <p:nvPicPr>
          <p:cNvPr id="423" name="Контейнер за съдържание 3" descr="160px-PARenoir.jpg"/>
          <p:cNvPicPr/>
          <p:nvPr/>
        </p:nvPicPr>
        <p:blipFill>
          <a:blip r:embed="rId2"/>
          <a:stretch/>
        </p:blipFill>
        <p:spPr>
          <a:xfrm>
            <a:off x="2556000" y="1197000"/>
            <a:ext cx="4032000" cy="531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764640"/>
            <a:ext cx="8229600" cy="5505480"/>
          </a:xfrm>
          <a:prstGeom prst="rect">
            <a:avLst/>
          </a:prstGeom>
          <a:noFill/>
          <a:ln w="0">
            <a:noFill/>
          </a:ln>
        </p:spPr>
        <p:txBody>
          <a:bodyPr lIns="90000" rIns="90000" tIns="46800" bIns="46800"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br>
              <a:rPr sz="2700"/>
            </a:br>
            <a:r>
              <a:rPr b="0" lang="bg-BG" sz="2700" spc="-1" strike="noStrike">
                <a:solidFill>
                  <a:srgbClr val="4f271c"/>
                </a:solidFill>
                <a:latin typeface="Franklin Gothic Book"/>
              </a:rPr>
              <a:t>    </a:t>
            </a:r>
            <a:r>
              <a:rPr b="0" lang="bg-BG" sz="2700" spc="-1" strike="noStrike">
                <a:solidFill>
                  <a:srgbClr val="4f271c"/>
                </a:solidFill>
                <a:latin typeface="Franklin Gothic Book"/>
              </a:rPr>
              <a:t>За ранните портрети на </a:t>
            </a:r>
            <a:r>
              <a:rPr b="1" lang="bg-BG" sz="2700" spc="-1" strike="noStrike">
                <a:solidFill>
                  <a:srgbClr val="4f271c"/>
                </a:solidFill>
                <a:latin typeface="Franklin Gothic Book"/>
              </a:rPr>
              <a:t>Реноар</a:t>
            </a:r>
            <a:r>
              <a:rPr b="0" lang="bg-BG" sz="2700" spc="-1" strike="noStrike">
                <a:solidFill>
                  <a:srgbClr val="4f271c"/>
                </a:solidFill>
                <a:latin typeface="Franklin Gothic Book"/>
              </a:rPr>
              <a:t> е характерно, че той не изолира своя модел от заобикалящата го среда, а чрез хармоничен баланс представя човека като част от света. На Третата изложба на импресионистите той представя двадесет и две свои работи, сред които и портрета на френската актриса от театъра „Комеди Франсез“, Жана Самари. Двамата се запознават през 1876 година в дома на писателя Алфонс Доде. Смята се, че Реноар създава този портрет на актрисата през онзи щастлив период, когато рисува, вдъхновен от модела, без да бъде ограничаван да се съобразява с вкусовете на свой клиент. По природа Реноар е бил жизнерадостен и твърде емоционален, така че трудно се подчинявал на строга дисциплина. </a:t>
            </a: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Картина 3" descr="05_Portrait_of_Jeanne_Samary.jpg"/>
          <p:cNvPicPr/>
          <p:nvPr/>
        </p:nvPicPr>
        <p:blipFill>
          <a:blip r:embed="rId1"/>
          <a:stretch/>
        </p:blipFill>
        <p:spPr>
          <a:xfrm>
            <a:off x="2627280" y="260280"/>
            <a:ext cx="3600360" cy="637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68360" y="692280"/>
            <a:ext cx="8229600" cy="5689440"/>
          </a:xfrm>
          <a:prstGeom prst="rect">
            <a:avLst/>
          </a:prstGeom>
          <a:noFill/>
          <a:ln w="0">
            <a:noFill/>
          </a:ln>
        </p:spPr>
        <p:txBody>
          <a:bodyPr lIns="90000" rIns="90000" tIns="46800" bIns="46800"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500" spc="-1" strike="noStrike">
                <a:solidFill>
                  <a:srgbClr val="4f271c"/>
                </a:solidFill>
                <a:latin typeface="Franklin Gothic Book"/>
              </a:rPr>
              <a:t>       </a:t>
            </a:r>
            <a:r>
              <a:rPr b="0" i="1" lang="bg-BG" sz="2500" spc="-1" strike="noStrike">
                <a:solidFill>
                  <a:srgbClr val="4f271c"/>
                </a:solidFill>
                <a:latin typeface="Franklin Gothic Book"/>
              </a:rPr>
              <a:t>Не са малко хората на изкуството, които не крият, че едва ли биха могли да създадат нещо, ако не обожаваха определени личности, които сме свикнали да назоваваме техни музи. В този смисъл муза е някой, който има такова влияние върху друг, че той или тя се превръща във фокус и вдъхновение за цялото му творчество.</a:t>
            </a:r>
            <a:br>
              <a:rPr sz="2500"/>
            </a:br>
            <a:r>
              <a:rPr b="0" i="1" lang="bg-BG" sz="2500" spc="-1" strike="noStrike">
                <a:solidFill>
                  <a:srgbClr val="4f271c"/>
                </a:solidFill>
                <a:latin typeface="Franklin Gothic Book"/>
              </a:rPr>
              <a:t>Думата произхожда от гръцката митология, в която деветте дъщери на Зевс и богиня Мнемозина (Памет) са наричани музи. Те имали за задача да очароват боговете с песните и танците си и да вдъхновяват творците. </a:t>
            </a:r>
            <a:endParaRPr b="0" lang="en-US" sz="2500" spc="-1" strike="noStrike">
              <a:solidFill>
                <a:srgbClr val="4f271c"/>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4f271c"/>
                </a:solidFill>
                <a:latin typeface="Franklin Gothic Book"/>
              </a:rPr>
              <a:t>         </a:t>
            </a:r>
            <a:r>
              <a:rPr b="0" lang="bg-BG" sz="2500" spc="-1" strike="noStrike">
                <a:solidFill>
                  <a:srgbClr val="4f271c"/>
                </a:solidFill>
                <a:latin typeface="Franklin Gothic Book"/>
              </a:rPr>
              <a:t>Особено ясно това проличава при художниците и скулпторите, които често са дотолкова обсебени от своите чувства, че в продължение на години пренасят на платното или ваят от камък и глина един-единствен образ – този на любимата жена.</a:t>
            </a:r>
            <a:endParaRPr b="0" lang="en-US" sz="2500" spc="-1" strike="noStrike">
              <a:solidFill>
                <a:srgbClr val="4f271c"/>
              </a:solidFill>
              <a:latin typeface="Franklin Gothic Book"/>
            </a:endParaRPr>
          </a:p>
          <a:p>
            <a:pPr marL="343080" indent="-343080">
              <a:lnSpc>
                <a:spcPct val="80000"/>
              </a:lnSpc>
              <a:spcBef>
                <a:spcPts val="624"/>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лавие 1" descr=""/>
          <p:cNvPicPr/>
          <p:nvPr/>
        </p:nvPicPr>
        <p:blipFill>
          <a:blip r:embed="rId1"/>
          <a:stretch/>
        </p:blipFill>
        <p:spPr>
          <a:xfrm>
            <a:off x="109440" y="457200"/>
            <a:ext cx="8882280" cy="1000080"/>
          </a:xfrm>
          <a:prstGeom prst="rect">
            <a:avLst/>
          </a:prstGeom>
          <a:ln w="0">
            <a:noFill/>
          </a:ln>
        </p:spPr>
      </p:pic>
      <p:sp>
        <p:nvSpPr>
          <p:cNvPr id="427" name=""/>
          <p:cNvSpPr txBox="1"/>
          <p:nvPr/>
        </p:nvSpPr>
        <p:spPr>
          <a:xfrm>
            <a:off x="2843280" y="1267920"/>
            <a:ext cx="5843520" cy="5040360"/>
          </a:xfrm>
          <a:prstGeom prst="rect">
            <a:avLst/>
          </a:prstGeom>
          <a:noFill/>
          <a:ln w="0">
            <a:noFill/>
          </a:ln>
        </p:spPr>
        <p:txBody>
          <a:bodyPr lIns="90000" rIns="90000" tIns="46800" bIns="46800"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Бог е надарил щедро един от най-гениалните художници от нашето време Пабло Пикасо, известен в целия свят не само със своите живописни творби, графика и скулптура от керамика, но и с множество романтични връзки с представителките на нежния пол. Някои от тях били прекалено краткотрайни, почти мимолетни, други - достатъчно продължителни. Всички обаче, в една или в друга степен, оказали влияние върху неговото творчество. </a:t>
            </a:r>
            <a:endParaRPr b="0" lang="en-US" sz="2700" spc="-1" strike="noStrike">
              <a:solidFill>
                <a:srgbClr val="4f271c"/>
              </a:solidFill>
              <a:latin typeface="Franklin Gothic Book"/>
            </a:endParaRPr>
          </a:p>
        </p:txBody>
      </p:sp>
      <p:pic>
        <p:nvPicPr>
          <p:cNvPr id="428" name="Картина 3" descr="http://margaritta.dir.bg/2005/yan/picaso00.jpg"/>
          <p:cNvPicPr/>
          <p:nvPr/>
        </p:nvPicPr>
        <p:blipFill>
          <a:blip r:embed="rId2"/>
          <a:stretch/>
        </p:blipFill>
        <p:spPr>
          <a:xfrm>
            <a:off x="324000" y="1844640"/>
            <a:ext cx="280800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Заглавие 1" descr=""/>
          <p:cNvPicPr/>
          <p:nvPr/>
        </p:nvPicPr>
        <p:blipFill>
          <a:blip r:embed="rId1"/>
          <a:stretch/>
        </p:blipFill>
        <p:spPr>
          <a:xfrm>
            <a:off x="146160" y="457200"/>
            <a:ext cx="8845560" cy="927000"/>
          </a:xfrm>
          <a:prstGeom prst="rect">
            <a:avLst/>
          </a:prstGeom>
          <a:ln w="0">
            <a:noFill/>
          </a:ln>
        </p:spPr>
      </p:pic>
      <p:pic>
        <p:nvPicPr>
          <p:cNvPr id="430" name="Контейнер за съдържание 3" descr="Фернанда Оливер"/>
          <p:cNvPicPr/>
          <p:nvPr/>
        </p:nvPicPr>
        <p:blipFill>
          <a:blip r:embed="rId2"/>
          <a:stretch/>
        </p:blipFill>
        <p:spPr>
          <a:xfrm>
            <a:off x="900000" y="1557360"/>
            <a:ext cx="2951280" cy="4248000"/>
          </a:xfrm>
          <a:prstGeom prst="rect">
            <a:avLst/>
          </a:prstGeom>
          <a:ln w="0">
            <a:noFill/>
          </a:ln>
        </p:spPr>
      </p:pic>
      <p:pic>
        <p:nvPicPr>
          <p:cNvPr id="431" name="Картина 4" descr="Портрет на Фернанда"/>
          <p:cNvPicPr/>
          <p:nvPr/>
        </p:nvPicPr>
        <p:blipFill>
          <a:blip r:embed="rId3"/>
          <a:stretch/>
        </p:blipFill>
        <p:spPr>
          <a:xfrm>
            <a:off x="4932360" y="1557360"/>
            <a:ext cx="2952720" cy="431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68360" y="1125000"/>
            <a:ext cx="8229600" cy="5288040"/>
          </a:xfrm>
          <a:prstGeom prst="rect">
            <a:avLst/>
          </a:prstGeom>
          <a:noFill/>
          <a:ln w="0">
            <a:noFill/>
          </a:ln>
        </p:spPr>
        <p:txBody>
          <a:bodyPr lIns="90000" rIns="90000" tIns="46800" bIns="46800"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Фернанда толкова пленила Пикасо със своята красота, че той незабелязано за себе си в своето творчество преминал от мрачните сини тонове към розови и бледосини. Цели девет години художникът обича страстно своята муза и иска от нея само едно - да е с него в ателието му, посещавано от знаменити френски пипсатели, поети и художници. Тя лежала на дивана без да прави нищо и създавала с присъствието си чувствена обстановка край художника. Справяла се великолепно.</a:t>
            </a:r>
            <a:br>
              <a:rPr sz="3000"/>
            </a:br>
            <a:r>
              <a:rPr b="0" lang="bg-BG" sz="3000" spc="-1" strike="noStrike">
                <a:solidFill>
                  <a:srgbClr val="4f271c"/>
                </a:solidFill>
                <a:latin typeface="Franklin Gothic Book"/>
              </a:rPr>
              <a:t> </a:t>
            </a: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Заглавие 1" descr=""/>
          <p:cNvPicPr/>
          <p:nvPr/>
        </p:nvPicPr>
        <p:blipFill>
          <a:blip r:embed="rId1"/>
          <a:stretch/>
        </p:blipFill>
        <p:spPr>
          <a:xfrm>
            <a:off x="146160" y="457200"/>
            <a:ext cx="8845560" cy="927000"/>
          </a:xfrm>
          <a:prstGeom prst="rect">
            <a:avLst/>
          </a:prstGeom>
          <a:ln w="0">
            <a:noFill/>
          </a:ln>
        </p:spPr>
      </p:pic>
      <p:pic>
        <p:nvPicPr>
          <p:cNvPr id="434" name="Контейнер за съдържание 3" descr="http://margaritta.dir.bg/2005/yan/picaso_marsel.jpg"/>
          <p:cNvPicPr/>
          <p:nvPr/>
        </p:nvPicPr>
        <p:blipFill>
          <a:blip r:embed="rId2"/>
          <a:stretch/>
        </p:blipFill>
        <p:spPr>
          <a:xfrm>
            <a:off x="2627280" y="1341360"/>
            <a:ext cx="3960720" cy="49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68360" y="1052640"/>
            <a:ext cx="8229600" cy="4897440"/>
          </a:xfrm>
          <a:prstGeom prst="rect">
            <a:avLst/>
          </a:prstGeom>
          <a:noFill/>
          <a:ln w="0">
            <a:noFill/>
          </a:ln>
        </p:spPr>
        <p:txBody>
          <a:bodyPr lIns="90000" rIns="90000" tIns="46800" bIns="46800"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И кой знае колко още биха просъществували техните трогателни любовни отношения, ако не била прекалената ревност на младата жена, която в крайна сметка накарала Пикасо да избяга от нея с любовницата на полския художник Маркуси -- красавицата Марсел. За гения Марсел (Marcelle Humbert) не била любовница-еднодневка. В нея той се влюбва истински. С влизането в живота му на тази крехка и изящна като статуетка жена, която той ласкаво нарича Кукличка, на платната на художника се появяват най-радостните и жизнеутвърждаващи картини.</a:t>
            </a:r>
            <a:endParaRPr b="0" lang="en-US" sz="2700" spc="-1" strike="noStrike">
              <a:solidFill>
                <a:srgbClr val="4f271c"/>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Заглавие 1" descr=""/>
          <p:cNvPicPr/>
          <p:nvPr/>
        </p:nvPicPr>
        <p:blipFill>
          <a:blip r:embed="rId1"/>
          <a:stretch/>
        </p:blipFill>
        <p:spPr>
          <a:xfrm>
            <a:off x="109440" y="457200"/>
            <a:ext cx="8882280" cy="1000080"/>
          </a:xfrm>
          <a:prstGeom prst="rect">
            <a:avLst/>
          </a:prstGeom>
          <a:ln w="0">
            <a:noFill/>
          </a:ln>
        </p:spPr>
      </p:pic>
      <p:pic>
        <p:nvPicPr>
          <p:cNvPr id="437" name="Контейнер за съдържание 3" descr="http://margaritta.dir.bg/2005/yan/picaso_olga2.jpg"/>
          <p:cNvPicPr/>
          <p:nvPr/>
        </p:nvPicPr>
        <p:blipFill>
          <a:blip r:embed="rId2"/>
          <a:stretch/>
        </p:blipFill>
        <p:spPr>
          <a:xfrm>
            <a:off x="2627280" y="1197000"/>
            <a:ext cx="3745080" cy="518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980640"/>
            <a:ext cx="8229600" cy="453564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4f271c"/>
                </a:solidFill>
                <a:latin typeface="Franklin Gothic Book"/>
              </a:rPr>
              <a:t>   </a:t>
            </a:r>
            <a:r>
              <a:rPr b="0" lang="bg-BG" sz="3200" spc="-1" strike="noStrike">
                <a:solidFill>
                  <a:srgbClr val="4f271c"/>
                </a:solidFill>
                <a:latin typeface="Franklin Gothic Book"/>
              </a:rPr>
              <a:t>Олга има добри маниери и особен славянски чар, който винаги се е ценял в Европа. С приятна външност, правилини черти на лицето и малко по-масивна брадичка, която издава нейния характер твърд, решителен и упорит. Страстта на Пикасо към Олга била толкова всепоглъщаща, че той й прави официално предложение, поднасяйки й сърцето и душата си.    </a:t>
            </a:r>
            <a:endParaRPr b="0" lang="en-US" sz="3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68360" y="1052640"/>
            <a:ext cx="8229600" cy="5184720"/>
          </a:xfrm>
          <a:prstGeom prst="rect">
            <a:avLst/>
          </a:prstGeom>
          <a:noFill/>
          <a:ln w="0">
            <a:noFill/>
          </a:ln>
        </p:spPr>
        <p:txBody>
          <a:bodyPr lIns="90000" rIns="90000" tIns="46800" bIns="46800"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4f271c"/>
                </a:solidFill>
                <a:latin typeface="Franklin Gothic Book"/>
              </a:rPr>
              <a:t>     </a:t>
            </a:r>
            <a:r>
              <a:rPr b="0" lang="bg-BG" sz="3200" spc="-1" strike="noStrike">
                <a:solidFill>
                  <a:srgbClr val="4f271c"/>
                </a:solidFill>
                <a:latin typeface="Franklin Gothic Book"/>
              </a:rPr>
              <a:t>На пръв поглед Олга би трябвало да се радва, че е получила всичко, което е искала. Е, да, но не било така. На 4 февруари 1921 година се ражда синът им Пол (Пауло). На 40 години Пикасо за първи път става баща. Това събитие го развълнувало и го изпълнило с гордост. Той прави до безкрайност рисунки на сина си и жена си. Всички те са в неокласически стил, жените в тях наподобяват олимпийски божества. </a:t>
            </a:r>
            <a:endParaRPr b="0" lang="en-US" sz="3200" spc="-1" strike="noStrike">
              <a:solidFill>
                <a:srgbClr val="4f271c"/>
              </a:solidFill>
              <a:latin typeface="Franklin Gothic Book"/>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Картина 3" descr="Портрет на Олга Хохлова"/>
          <p:cNvPicPr/>
          <p:nvPr/>
        </p:nvPicPr>
        <p:blipFill>
          <a:blip r:embed="rId1"/>
          <a:stretch/>
        </p:blipFill>
        <p:spPr>
          <a:xfrm>
            <a:off x="755640" y="1125360"/>
            <a:ext cx="3745080" cy="5183280"/>
          </a:xfrm>
          <a:prstGeom prst="rect">
            <a:avLst/>
          </a:prstGeom>
          <a:ln w="0">
            <a:noFill/>
          </a:ln>
        </p:spPr>
      </p:pic>
      <p:pic>
        <p:nvPicPr>
          <p:cNvPr id="441" name="Картина 4" descr="Синът на художника - Пол"/>
          <p:cNvPicPr/>
          <p:nvPr/>
        </p:nvPicPr>
        <p:blipFill>
          <a:blip r:embed="rId2"/>
          <a:stretch/>
        </p:blipFill>
        <p:spPr>
          <a:xfrm>
            <a:off x="4788000" y="1125360"/>
            <a:ext cx="3744720" cy="518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6840" y="260280"/>
            <a:ext cx="5770440" cy="3240000"/>
          </a:xfrm>
          <a:prstGeom prst="rect">
            <a:avLst/>
          </a:prstGeom>
          <a:noFill/>
          <a:ln w="0">
            <a:noFill/>
          </a:ln>
        </p:spPr>
        <p:txBody>
          <a:bodyPr lIns="90000" rIns="90000" tIns="46800" bIns="46800" anchor="t">
            <a:normAutofit fontScale="93000"/>
          </a:bodyPr>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Пикасо има още много жени-Дора,която също е художничка;</a:t>
            </a:r>
            <a:r>
              <a:rPr b="1" lang="bg-BG" sz="3000" spc="-1" strike="noStrike">
                <a:solidFill>
                  <a:srgbClr val="4f271c"/>
                </a:solidFill>
                <a:latin typeface="Franklin Gothic Book"/>
              </a:rPr>
              <a:t> </a:t>
            </a:r>
            <a:r>
              <a:rPr b="0" lang="bg-BG" sz="3000" spc="-1" strike="noStrike">
                <a:solidFill>
                  <a:srgbClr val="4f271c"/>
                </a:solidFill>
                <a:latin typeface="Franklin Gothic Book"/>
              </a:rPr>
              <a:t>Франсоаз-от нея има 2 деца /ПАЛОМА ПИКАСО. ;Жаклин-тя е до него,когато Пикасо е на преклонна възраст. </a:t>
            </a:r>
            <a:endParaRPr b="0" lang="en-US" sz="3000" spc="-1" strike="noStrike">
              <a:solidFill>
                <a:srgbClr val="4f271c"/>
              </a:solidFill>
              <a:latin typeface="Franklin Gothic Book"/>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endParaRPr b="0" lang="en-US" sz="3000" spc="-1" strike="noStrike">
              <a:solidFill>
                <a:srgbClr val="4f271c"/>
              </a:solidFill>
              <a:latin typeface="Franklin Gothic Book"/>
            </a:endParaRPr>
          </a:p>
        </p:txBody>
      </p:sp>
      <p:pic>
        <p:nvPicPr>
          <p:cNvPr id="443" name="Картина 3" descr="Дора Маар"/>
          <p:cNvPicPr/>
          <p:nvPr/>
        </p:nvPicPr>
        <p:blipFill>
          <a:blip r:embed="rId1"/>
          <a:stretch/>
        </p:blipFill>
        <p:spPr>
          <a:xfrm>
            <a:off x="395280" y="2924280"/>
            <a:ext cx="2592360" cy="3457440"/>
          </a:xfrm>
          <a:prstGeom prst="rect">
            <a:avLst/>
          </a:prstGeom>
          <a:ln w="0">
            <a:noFill/>
          </a:ln>
        </p:spPr>
      </p:pic>
      <p:sp>
        <p:nvSpPr>
          <p:cNvPr id="444" name="Текстово поле 4"/>
          <p:cNvSpPr/>
          <p:nvPr/>
        </p:nvSpPr>
        <p:spPr>
          <a:xfrm>
            <a:off x="395280" y="6021360"/>
            <a:ext cx="21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Franklin Gothic Book"/>
              </a:rPr>
              <a:t>Дора</a:t>
            </a:r>
            <a:endParaRPr b="0" lang="en-US" sz="2000" spc="-1" strike="noStrike">
              <a:solidFill>
                <a:srgbClr val="000000"/>
              </a:solidFill>
              <a:latin typeface="Franklin Gothic Book"/>
            </a:endParaRPr>
          </a:p>
        </p:txBody>
      </p:sp>
      <p:pic>
        <p:nvPicPr>
          <p:cNvPr id="445" name="Картина 5" descr="http://margaritta.dir.bg/2005/yan/jaklin2.jpg"/>
          <p:cNvPicPr/>
          <p:nvPr/>
        </p:nvPicPr>
        <p:blipFill>
          <a:blip r:embed="rId2"/>
          <a:stretch/>
        </p:blipFill>
        <p:spPr>
          <a:xfrm>
            <a:off x="3492360" y="2924280"/>
            <a:ext cx="2592360" cy="3457440"/>
          </a:xfrm>
          <a:prstGeom prst="rect">
            <a:avLst/>
          </a:prstGeom>
          <a:ln w="0">
            <a:noFill/>
          </a:ln>
        </p:spPr>
      </p:pic>
      <p:sp>
        <p:nvSpPr>
          <p:cNvPr id="446" name="Текстово поле 6"/>
          <p:cNvSpPr/>
          <p:nvPr/>
        </p:nvSpPr>
        <p:spPr>
          <a:xfrm>
            <a:off x="3564000" y="609300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Franklin Gothic Book"/>
              </a:rPr>
              <a:t>Жаклин</a:t>
            </a:r>
            <a:endParaRPr b="0" lang="en-US" sz="1800" spc="-1" strike="noStrike">
              <a:solidFill>
                <a:srgbClr val="000000"/>
              </a:solidFill>
              <a:latin typeface="Franklin Gothic Book"/>
            </a:endParaRPr>
          </a:p>
        </p:txBody>
      </p:sp>
      <p:pic>
        <p:nvPicPr>
          <p:cNvPr id="447" name="Картина 7" descr="http://margaritta.dir.bg/2005/yan/picaso_gilo.jpg"/>
          <p:cNvPicPr/>
          <p:nvPr/>
        </p:nvPicPr>
        <p:blipFill>
          <a:blip r:embed="rId3"/>
          <a:stretch/>
        </p:blipFill>
        <p:spPr>
          <a:xfrm>
            <a:off x="6300720" y="2924280"/>
            <a:ext cx="2592360" cy="34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Заглавие 1" descr=""/>
          <p:cNvPicPr/>
          <p:nvPr/>
        </p:nvPicPr>
        <p:blipFill>
          <a:blip r:embed="rId1"/>
          <a:stretch/>
        </p:blipFill>
        <p:spPr>
          <a:xfrm>
            <a:off x="109440" y="457200"/>
            <a:ext cx="8882280" cy="1000080"/>
          </a:xfrm>
          <a:prstGeom prst="rect">
            <a:avLst/>
          </a:prstGeom>
          <a:ln w="0">
            <a:noFill/>
          </a:ln>
        </p:spPr>
      </p:pic>
      <p:pic>
        <p:nvPicPr>
          <p:cNvPr id="402" name="Контейнер за съдържание 3" descr="http://drugotokino.bg/sites/default/files/%281%29%20%D0%92%D0%B5%D0%BB%D0%B8%D0%BA%D0%B8%D1%8F%D1%82%20%D1%84%D1%80%D0%B5%D0%BD%D1%81%D0%BA%D0%B8%20%D1%81%D0%BA%D1%83%D0%BB%D0%BF%D1%82%D0%BE%D1%80%20%D0%9E%D0%B3%D1%8E%D1%81%D1%82%20%D0%A0%D0%BE%D0%B4%D0%B5%D0%BD%20%D0%B8%20%D0%BD%D0%B5%D0%B3%D0%BE%D0%B2%D0%B0%D1%82%D0%B0%20%D0%BC%D1%83%D0%B7%D0%B0%20%D0%9A%D0%B0%D0%BC%D0%B8%D0%B9%20%D0%9A%D0%BB%D0%BE%D0%B4%D0%B5%D0%BB.jpg"/>
          <p:cNvPicPr/>
          <p:nvPr/>
        </p:nvPicPr>
        <p:blipFill>
          <a:blip r:embed="rId2"/>
          <a:stretch/>
        </p:blipFill>
        <p:spPr>
          <a:xfrm>
            <a:off x="1547640" y="1484280"/>
            <a:ext cx="6083640" cy="475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Заглавие 1" descr=""/>
          <p:cNvPicPr/>
          <p:nvPr/>
        </p:nvPicPr>
        <p:blipFill>
          <a:blip r:embed="rId1"/>
          <a:stretch/>
        </p:blipFill>
        <p:spPr>
          <a:xfrm>
            <a:off x="109440" y="457200"/>
            <a:ext cx="8882280" cy="1000080"/>
          </a:xfrm>
          <a:prstGeom prst="rect">
            <a:avLst/>
          </a:prstGeom>
          <a:ln w="0">
            <a:noFill/>
          </a:ln>
        </p:spPr>
      </p:pic>
      <p:sp>
        <p:nvSpPr>
          <p:cNvPr id="449" name=""/>
          <p:cNvSpPr txBox="1"/>
          <p:nvPr/>
        </p:nvSpPr>
        <p:spPr>
          <a:xfrm>
            <a:off x="457200" y="1600200"/>
            <a:ext cx="8229600" cy="4997520"/>
          </a:xfrm>
          <a:prstGeom prst="rect">
            <a:avLst/>
          </a:prstGeom>
          <a:noFill/>
          <a:ln w="0">
            <a:noFill/>
          </a:ln>
        </p:spPr>
        <p:txBody>
          <a:bodyPr lIns="90000" rIns="90000" tIns="46800" bIns="46800" anchor="t">
            <a:normAutofit fontScale="97000"/>
          </a:bodyPr>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От края на XIX век и до началото на Втората световна война Париж е центърът и квинтесенцията на европейската култура и изкуство. Като говорим за майсторите от онова време, бил той  Пикасо, Модилиани или Дали, трябва да отдадем нужната почит и на онези, които са ги вдъхновявали за творчество  и експерименти.  Седем жени, седемте музи на Париж са не просто красиви лица, изящни фигури или лек характер – това са личности, които със самия факт на своето съществуване провокират гениите да търсят нови артистични форми и пораждат вдъхновение, естествено, като дишането.</a:t>
            </a:r>
            <a:br>
              <a:rPr sz="2700"/>
            </a:b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Заглавие 1" descr=""/>
          <p:cNvPicPr/>
          <p:nvPr/>
        </p:nvPicPr>
        <p:blipFill>
          <a:blip r:embed="rId1"/>
          <a:stretch/>
        </p:blipFill>
        <p:spPr>
          <a:xfrm>
            <a:off x="146160" y="457200"/>
            <a:ext cx="8845560" cy="927000"/>
          </a:xfrm>
          <a:prstGeom prst="rect">
            <a:avLst/>
          </a:prstGeom>
          <a:ln w="0">
            <a:noFill/>
          </a:ln>
        </p:spPr>
      </p:pic>
      <p:sp>
        <p:nvSpPr>
          <p:cNvPr id="451" name=""/>
          <p:cNvSpPr txBox="1"/>
          <p:nvPr/>
        </p:nvSpPr>
        <p:spPr>
          <a:xfrm>
            <a:off x="457200" y="1600200"/>
            <a:ext cx="8229600" cy="4781520"/>
          </a:xfrm>
          <a:prstGeom prst="rect">
            <a:avLst/>
          </a:prstGeom>
          <a:noFill/>
          <a:ln w="0">
            <a:noFill/>
          </a:ln>
        </p:spPr>
        <p:txBody>
          <a:bodyPr lIns="90000" rIns="90000" tIns="46800" bIns="46800"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Кики,  Алис Ернестина Прен, става въплъщение на свободния дух, който царува във френската столица в началото на 20-те години на XX век. Незаконородено дете от бедната провинция, дванадесетгодишна тя бяга в Париж. Известно време живее в мизерия и на 14 години започва да позира като модел в ателиета на художници и скулптори. Истинската слава и популярност идват при нея през 1920 година след запознанството и с фотографа Ман Рей. Композицията «Цигулката на Енгр» (снимката долу вляво), създадена от Рей, става класика във фотографията в жанра «ню» и едно от най -тиражираните естетически клишета.</a:t>
            </a:r>
            <a:endParaRPr b="0" lang="en-US" sz="2700" spc="-1" strike="noStrike">
              <a:solidFill>
                <a:srgbClr val="4f271c"/>
              </a:solidFill>
              <a:latin typeface="Franklin Gothic Book"/>
            </a:endParaRPr>
          </a:p>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Картина 3" descr="http://www.zabriskiegallery.com/KIKI%202002/autoportrait.JPG">
            <a:hlinkClick r:id="rId1"/>
          </p:cNvPr>
          <p:cNvPicPr/>
          <p:nvPr/>
        </p:nvPicPr>
        <p:blipFill>
          <a:blip r:embed="rId2"/>
          <a:stretch/>
        </p:blipFill>
        <p:spPr>
          <a:xfrm>
            <a:off x="2195640" y="692280"/>
            <a:ext cx="4464000" cy="595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Картина 3" descr="http://podkofeek.ru/plugins/content/jumultithumb/img.php?src=Li4vLi4vLi4vaW1hZ2VzL3N0b3JpZXMvZXNwcmVzc28vNTQ4LzAzLmpwZyZhbXA7dz03MTUmYW1wO2g9MCZhbXA7cT05MA==">
            <a:hlinkClick r:id="rId1"/>
          </p:cNvPr>
          <p:cNvPicPr/>
          <p:nvPr/>
        </p:nvPicPr>
        <p:blipFill>
          <a:blip r:embed="rId2"/>
          <a:stretch/>
        </p:blipFill>
        <p:spPr>
          <a:xfrm>
            <a:off x="1116000" y="1268280"/>
            <a:ext cx="7056360" cy="511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Заглавие 1" descr=""/>
          <p:cNvPicPr/>
          <p:nvPr/>
        </p:nvPicPr>
        <p:blipFill>
          <a:blip r:embed="rId1"/>
          <a:stretch/>
        </p:blipFill>
        <p:spPr>
          <a:xfrm>
            <a:off x="146160" y="457200"/>
            <a:ext cx="8845560" cy="927000"/>
          </a:xfrm>
          <a:prstGeom prst="rect">
            <a:avLst/>
          </a:prstGeom>
          <a:ln w="0">
            <a:noFill/>
          </a:ln>
        </p:spPr>
      </p:pic>
      <p:sp>
        <p:nvSpPr>
          <p:cNvPr id="455" name=""/>
          <p:cNvSpPr txBox="1"/>
          <p:nvPr/>
        </p:nvSpPr>
        <p:spPr>
          <a:xfrm>
            <a:off x="179280" y="1412640"/>
            <a:ext cx="3384720" cy="4824360"/>
          </a:xfrm>
          <a:prstGeom prst="rect">
            <a:avLst/>
          </a:prstGeom>
          <a:noFill/>
          <a:ln w="0">
            <a:noFill/>
          </a:ln>
        </p:spPr>
        <p:txBody>
          <a:bodyPr lIns="90000" rIns="90000" tIns="46800" bIns="46800" anchor="t">
            <a:normAutofit fontScale="91000"/>
          </a:bodyPr>
          <a:p>
            <a:pPr marL="312120" indent="-312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Това момиче с гъсти кестеняви коси  и пронизващ поглед на сините си очи може да се види на много картини на  Амедео Модилиани, и това е история на една велика  страст, но нещастна любов.</a:t>
            </a:r>
            <a:r>
              <a:rPr b="1" lang="bg-BG" sz="2700" spc="-1" strike="noStrike">
                <a:solidFill>
                  <a:srgbClr val="4f271c"/>
                </a:solidFill>
                <a:latin typeface="Franklin Gothic Book"/>
              </a:rPr>
              <a:t> </a:t>
            </a:r>
            <a:endParaRPr b="0" lang="en-US" sz="2700" spc="-1" strike="noStrike">
              <a:solidFill>
                <a:srgbClr val="4f271c"/>
              </a:solidFill>
              <a:latin typeface="Franklin Gothic Book"/>
            </a:endParaRPr>
          </a:p>
          <a:p>
            <a:pPr marL="312120" indent="-312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pic>
        <p:nvPicPr>
          <p:cNvPr id="456" name="Картина 3" descr="http://podkofeek.ru/plugins/content/jumultithumb/img.php?src=Li4vLi4vLi4vaW1hZ2VzL3N0b3JpZXMvZXNwcmVzc28vNTQ4LzA4LmpwZyZhbXA7dz03MTUmYW1wO2g9MCZhbXA7cT05MA==">
            <a:hlinkClick r:id="rId2"/>
          </p:cNvPr>
          <p:cNvPicPr/>
          <p:nvPr/>
        </p:nvPicPr>
        <p:blipFill>
          <a:blip r:embed="rId3"/>
          <a:stretch/>
        </p:blipFill>
        <p:spPr>
          <a:xfrm>
            <a:off x="3995640" y="1197000"/>
            <a:ext cx="4248360" cy="5184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Картина 3" descr="Fichier:Amadeo Modigliani 027.jpg">
            <a:hlinkClick r:id="rId1"/>
          </p:cNvPr>
          <p:cNvPicPr/>
          <p:nvPr/>
        </p:nvPicPr>
        <p:blipFill>
          <a:blip r:embed="rId2"/>
          <a:stretch/>
        </p:blipFill>
        <p:spPr>
          <a:xfrm>
            <a:off x="468360" y="549360"/>
            <a:ext cx="3562200" cy="5705280"/>
          </a:xfrm>
          <a:prstGeom prst="rect">
            <a:avLst/>
          </a:prstGeom>
          <a:ln w="0">
            <a:noFill/>
          </a:ln>
        </p:spPr>
      </p:pic>
      <p:pic>
        <p:nvPicPr>
          <p:cNvPr id="458" name="Картина 4" descr="http://podkofeek.ru/plugins/content/jumultithumb/img.php?src=Li4vLi4vLi4vaW1hZ2VzL3N0b3JpZXMvZXNwcmVzc28vNTQ4LzA5LmpwZyZhbXA7dz03MTUmYW1wO2g9MCZhbXA7cT05MA==">
            <a:hlinkClick r:id="rId3"/>
          </p:cNvPr>
          <p:cNvPicPr/>
          <p:nvPr/>
        </p:nvPicPr>
        <p:blipFill>
          <a:blip r:embed="rId4"/>
          <a:stretch/>
        </p:blipFill>
        <p:spPr>
          <a:xfrm>
            <a:off x="4067280" y="1052640"/>
            <a:ext cx="4873680" cy="5051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Заглавие 1" descr=""/>
          <p:cNvPicPr/>
          <p:nvPr/>
        </p:nvPicPr>
        <p:blipFill>
          <a:blip r:embed="rId1"/>
          <a:stretch/>
        </p:blipFill>
        <p:spPr>
          <a:xfrm>
            <a:off x="146160" y="457200"/>
            <a:ext cx="8845560" cy="927000"/>
          </a:xfrm>
          <a:prstGeom prst="rect">
            <a:avLst/>
          </a:prstGeom>
          <a:ln w="0">
            <a:noFill/>
          </a:ln>
        </p:spPr>
      </p:pic>
      <p:sp>
        <p:nvSpPr>
          <p:cNvPr id="460" name=""/>
          <p:cNvSpPr txBox="1"/>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В края на двадесетте - началото на тридесетте години Мария (Нуш) Бенц се слави като една от най-красивите жени на бохемския  Париж. Във външността и се съчетават изтънчена грация и неуловимо, мистично привличане. Тя играе епизодични  роли в театъра, асистира на известен хипнотизатор, увлича се от фотоколажи, позира гола на  Ман Рей и Пабло Пикасо. </a:t>
            </a:r>
            <a:endParaRPr b="0" lang="en-US" sz="3000" spc="-1" strike="noStrike">
              <a:solidFill>
                <a:srgbClr val="4f271c"/>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Картина 3" descr="http://podkofeek.ru/plugins/content/jumultithumb/img.php?src=Li4vLi4vLi4vaW1hZ2VzL3N0b3JpZXMvZXNwcmVzc28vNTQ4LzE2LmpwZyZhbXA7dz03MTUmYW1wO2g9MCZhbXA7cT05MA==">
            <a:hlinkClick r:id="rId1"/>
          </p:cNvPr>
          <p:cNvPicPr/>
          <p:nvPr/>
        </p:nvPicPr>
        <p:blipFill>
          <a:blip r:embed="rId2"/>
          <a:stretch/>
        </p:blipFill>
        <p:spPr>
          <a:xfrm>
            <a:off x="179280" y="189000"/>
            <a:ext cx="4680000" cy="3600360"/>
          </a:xfrm>
          <a:prstGeom prst="rect">
            <a:avLst/>
          </a:prstGeom>
          <a:ln w="0">
            <a:noFill/>
          </a:ln>
        </p:spPr>
      </p:pic>
      <p:pic>
        <p:nvPicPr>
          <p:cNvPr id="462" name="Картина 4" descr="http://podkofeek.ru/plugins/content/jumultithumb/img.php?src=Li4vLi4vLi4vaW1hZ2VzL3N0b3JpZXMvZXNwcmVzc28vNTQ4LzE3LmpwZyZhbXA7dz03MTUmYW1wO2g9MCZhbXA7cT05MA==">
            <a:hlinkClick r:id="rId3"/>
          </p:cNvPr>
          <p:cNvPicPr/>
          <p:nvPr/>
        </p:nvPicPr>
        <p:blipFill>
          <a:blip r:embed="rId4"/>
          <a:stretch/>
        </p:blipFill>
        <p:spPr>
          <a:xfrm>
            <a:off x="3132000" y="2852640"/>
            <a:ext cx="5712120" cy="378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Заглавие 1" descr=""/>
          <p:cNvPicPr/>
          <p:nvPr/>
        </p:nvPicPr>
        <p:blipFill>
          <a:blip r:embed="rId1"/>
          <a:stretch/>
        </p:blipFill>
        <p:spPr>
          <a:xfrm>
            <a:off x="146160" y="457200"/>
            <a:ext cx="8845560" cy="927000"/>
          </a:xfrm>
          <a:prstGeom prst="rect">
            <a:avLst/>
          </a:prstGeom>
          <a:ln w="0">
            <a:noFill/>
          </a:ln>
        </p:spPr>
      </p:pic>
      <p:sp>
        <p:nvSpPr>
          <p:cNvPr id="464"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Румънка по произход, Рене Перл работи в Париж като манекенка. Тя е фантастично красива даже по съвременните безпощадни мерки на световната мода – висока, слаба, с грациозна дълга шия и сияещи къдри на тъмните коси. През двадесетте години тя се запознава с преуспяващия и взискателен фотограф Жак-Анри Лартиг и става негова любовница и муза. Лартиг е майстор на репортажната и портретна фотография, и работите му се славят с естественост и тънък усет за момента. Рене става за  фотографа  любима и главен модел доживотно, и затова историята запазва стотици нейни портрети. </a:t>
            </a:r>
            <a:endParaRPr b="0" lang="en-US" sz="2700" spc="-1" strike="noStrike">
              <a:solidFill>
                <a:srgbClr val="4f271c"/>
              </a:solidFill>
              <a:latin typeface="Franklin Gothic Book"/>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Картина 3" descr="http://podkofeek.ru/plugins/content/jumultithumb/img.php?src=Li4vLi4vLi4vaW1hZ2VzL3N0b3JpZXMvZXNwcmVzc28vNTQ4LzE5LmpwZyZhbXA7dz03MTUmYW1wO2g9MCZhbXA7cT05MA=="/>
          <p:cNvPicPr/>
          <p:nvPr/>
        </p:nvPicPr>
        <p:blipFill>
          <a:blip r:embed="rId1"/>
          <a:stretch/>
        </p:blipFill>
        <p:spPr>
          <a:xfrm>
            <a:off x="1547640" y="1125360"/>
            <a:ext cx="6000840" cy="539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360" y="1125360"/>
            <a:ext cx="8229600" cy="5112000"/>
          </a:xfrm>
          <a:prstGeom prst="rect">
            <a:avLst/>
          </a:prstGeom>
          <a:noFill/>
          <a:ln w="0">
            <a:noFill/>
          </a:ln>
        </p:spPr>
        <p:txBody>
          <a:bodyPr lIns="90000" rIns="90000" tIns="46800" bIns="46800" anchor="t">
            <a:normAutofit fontScale="91000"/>
          </a:bodyPr>
          <a:p>
            <a:pPr marL="312120" indent="-312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Основоположник на импресионизма в пластичното изкуство.</a:t>
            </a:r>
            <a:br>
              <a:rPr sz="3000"/>
            </a:br>
            <a:r>
              <a:rPr b="0" lang="bg-BG" sz="3000" spc="-1" strike="noStrike">
                <a:solidFill>
                  <a:srgbClr val="4f271c"/>
                </a:solidFill>
                <a:latin typeface="Franklin Gothic Book"/>
              </a:rPr>
              <a:t>През 1884 г. френският скулптор </a:t>
            </a:r>
            <a:r>
              <a:rPr b="0" lang="bg-BG" sz="3000" spc="-1" strike="noStrike" u="sng">
                <a:solidFill>
                  <a:srgbClr val="8dc765"/>
                </a:solidFill>
                <a:uFillTx/>
                <a:latin typeface="Franklin Gothic Book"/>
                <a:hlinkClick r:id="rId1"/>
              </a:rPr>
              <a:t>Огюст Роден</a:t>
            </a:r>
            <a:r>
              <a:rPr b="0" lang="bg-BG" sz="3000" spc="-1" strike="noStrike">
                <a:solidFill>
                  <a:srgbClr val="4f271c"/>
                </a:solidFill>
                <a:latin typeface="Franklin Gothic Book"/>
              </a:rPr>
              <a:t>, тогава 44-годишен, взима за помощничка 19-годишната Камий Клодел. Красивото момиче се превръща в прилежна ученичка на големия творец и скоро му става любовница, муза и любим модел.  През годините на страстната им връзка Роден създава някои от най-известните си скулптури („Аврора“, „Развратница“, „Скръб“, „Данаида“, „Сбогуване“, „Меланхолия“, „Целувка“, „Поетът и неговата Муза“, „Вечната пролет“).   </a:t>
            </a:r>
            <a:endParaRPr b="0" lang="en-US" sz="3000" spc="-1" strike="noStrike">
              <a:solidFill>
                <a:srgbClr val="4f271c"/>
              </a:solidFill>
              <a:latin typeface="Franklin Gothic Book"/>
            </a:endParaRPr>
          </a:p>
          <a:p>
            <a:pPr marL="312120" indent="-312120">
              <a:lnSpc>
                <a:spcPct val="80000"/>
              </a:lnSpc>
              <a:spcBef>
                <a:spcPts val="751"/>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Картина 3" descr="http://podkofeek.ru/plugins/content/jumultithumb/img.php?src=Li4vLi4vLi4vaW1hZ2VzL3N0b3JpZXMvZXNwcmVzc28vNTQ4LzIyLmpwZyZhbXA7dz03MTUmYW1wO2g9MCZhbXA7cT05MA=="/>
          <p:cNvPicPr/>
          <p:nvPr/>
        </p:nvPicPr>
        <p:blipFill>
          <a:blip r:embed="rId1"/>
          <a:stretch/>
        </p:blipFill>
        <p:spPr>
          <a:xfrm>
            <a:off x="1116000" y="1197000"/>
            <a:ext cx="6840720" cy="475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Заглавие 1" descr=""/>
          <p:cNvPicPr/>
          <p:nvPr/>
        </p:nvPicPr>
        <p:blipFill>
          <a:blip r:embed="rId1"/>
          <a:stretch/>
        </p:blipFill>
        <p:spPr>
          <a:xfrm>
            <a:off x="109440" y="457200"/>
            <a:ext cx="8882280" cy="100008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4f271c"/>
                </a:solidFill>
                <a:latin typeface="Franklin Gothic Book"/>
              </a:rPr>
              <a:t>       </a:t>
            </a:r>
            <a:br>
              <a:rPr sz="2500"/>
            </a:br>
            <a:r>
              <a:rPr b="0" lang="bg-BG" sz="2500" spc="-1" strike="noStrike">
                <a:solidFill>
                  <a:srgbClr val="4f271c"/>
                </a:solidFill>
                <a:latin typeface="Franklin Gothic Book"/>
              </a:rPr>
              <a:t>    </a:t>
            </a:r>
            <a:r>
              <a:rPr b="0" lang="bg-BG" sz="2500" spc="-1" strike="noStrike">
                <a:solidFill>
                  <a:srgbClr val="4f271c"/>
                </a:solidFill>
                <a:latin typeface="Franklin Gothic Book"/>
              </a:rPr>
              <a:t>Руската емигрантка </a:t>
            </a:r>
            <a:r>
              <a:rPr b="1" lang="bg-BG" sz="2500" spc="-1" strike="noStrike">
                <a:solidFill>
                  <a:srgbClr val="4f271c"/>
                </a:solidFill>
                <a:latin typeface="Franklin Gothic Book"/>
              </a:rPr>
              <a:t>Елена Дяконова</a:t>
            </a:r>
            <a:r>
              <a:rPr b="0" lang="bg-BG" sz="2500" spc="-1" strike="noStrike">
                <a:solidFill>
                  <a:srgbClr val="4f271c"/>
                </a:solidFill>
                <a:latin typeface="Franklin Gothic Book"/>
              </a:rPr>
              <a:t> е най-известната сред пантеона на парижките музи. През 1912 год, на 16 години тя напуска Русия и заминава за Швейцария да се лекува,.Там се запознава с Пол Елюар.  Техният роман завършил със сключване на брак през 1917 година  и раждане на дъщеря. През 1921 тя става любовница на художника Макс Ернст, при това връзката им не е скрита, и тройният брак просъществува повече от  пет години. През 1929 година принадлежащия към кръга на сюрреалистите  Елюар, заедно с жена си отива в Кадак, където се срещат с младия художник Салвадор Дали, и тази среща става епохална за тримата.  </a:t>
            </a: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68360" y="1052280"/>
            <a:ext cx="8229600" cy="5289480"/>
          </a:xfrm>
          <a:prstGeom prst="rect">
            <a:avLst/>
          </a:prstGeom>
          <a:noFill/>
          <a:ln w="0">
            <a:noFill/>
          </a:ln>
        </p:spPr>
        <p:txBody>
          <a:bodyPr lIns="90000" rIns="90000" tIns="46800" bIns="46800"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Дали от пръв поглед се влюбва в Гала (по-голяма от него с 10 години), музата му отвръща с благосклонност, изоставя мъжа си и дъщеря си и заминава да живее в Испания; Елюар се утешава с роман и брак с Нуш. Гала става централен персонаж на цялото творчество на Дали, нейният образ може да се види на десетки картини и скулптури; тя е негов наставник и мениджър, и може без преувеличение да се каже, че световната слава на художника в значителна степен е заслуга на неговата жена. Известно е също, че в брака си с Дали Гала има и други любовни увлечения, но творецът се отнася към тези изневери учудващо лоялно. След смъртта на Гала през  1982 годинта Дали не нарисува повече нито една картина.</a:t>
            </a:r>
            <a:endParaRPr b="0" lang="en-US" sz="2700" spc="-1" strike="noStrike">
              <a:solidFill>
                <a:srgbClr val="4f271c"/>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Картина 3" descr="http://podkofeek.ru/plugins/content/jumultithumb/img.php?src=Li4vLi4vLi4vaW1hZ2VzL3N0b3JpZXMvZXNwcmVzc28vNTQ4LzA2LmpwZyZhbXA7dz03MTUmYW1wO2g9MCZhbXA7cT05MA=="/>
          <p:cNvPicPr/>
          <p:nvPr/>
        </p:nvPicPr>
        <p:blipFill>
          <a:blip r:embed="rId1"/>
          <a:stretch/>
        </p:blipFill>
        <p:spPr>
          <a:xfrm>
            <a:off x="971640" y="1125360"/>
            <a:ext cx="7056360" cy="539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Картина 3" descr="http://podkofeek.ru/plugins/content/jumultithumb/img.php?src=Li4vLi4vLi4vaW1hZ2VzL3N0b3JpZXMvZXNwcmVzc28vNTQ4LzA3LmpwZyZhbXA7dz03MTUmYW1wO2g9MCZhbXA7cT05MA=="/>
          <p:cNvPicPr/>
          <p:nvPr/>
        </p:nvPicPr>
        <p:blipFill>
          <a:blip r:embed="rId1"/>
          <a:stretch/>
        </p:blipFill>
        <p:spPr>
          <a:xfrm>
            <a:off x="971640" y="1268280"/>
            <a:ext cx="7272360" cy="4969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Заглавие 1" descr=""/>
          <p:cNvPicPr/>
          <p:nvPr/>
        </p:nvPicPr>
        <p:blipFill>
          <a:blip r:embed="rId1"/>
          <a:stretch/>
        </p:blipFill>
        <p:spPr>
          <a:xfrm>
            <a:off x="109440" y="457200"/>
            <a:ext cx="8882280" cy="100008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bg-BG" sz="2200" spc="-1" strike="noStrike">
                <a:solidFill>
                  <a:srgbClr val="4f271c"/>
                </a:solidFill>
                <a:latin typeface="Franklin Gothic Book"/>
              </a:rPr>
              <a:t>     </a:t>
            </a:r>
            <a:r>
              <a:rPr b="0" lang="bg-BG" sz="2200" spc="-1" strike="noStrike">
                <a:solidFill>
                  <a:srgbClr val="4f271c"/>
                </a:solidFill>
                <a:latin typeface="Franklin Gothic Book"/>
              </a:rPr>
              <a:t>В списъка  на донжуановските победи на  Пабло Пикасо особено място заема Мария Тереза Валтер. В момента на тяхното запознанство през 1926 година момичето е на 17 години, а художника на 45. Пикасо никак не е смутен от голямата разлика във възрастта, както и от факта, че е женен за  Олга Хохлова – романът между Пикасо и Валтер започва  три дни след първата им среща.Тази връзка кардинално променя посоката и настроението в работите на твореца – живописта и графиката на Пикасо се изпълват с чувственост, еротика и дъха на младостта. Една от най-известните му работи, посветени на Мария Тереза, - «Голата. Зелени листа и бюст» през 2004 година е продадена на фантастична цена – 106.5 милиона долара, - това е най-скъпата картина на Пабло Пикасо.</a:t>
            </a:r>
            <a:endParaRPr b="0" lang="en-US" sz="2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68360" y="1052640"/>
            <a:ext cx="8229600" cy="5184720"/>
          </a:xfrm>
          <a:prstGeom prst="rect">
            <a:avLst/>
          </a:prstGeom>
          <a:noFill/>
          <a:ln w="0">
            <a:noFill/>
          </a:ln>
        </p:spPr>
        <p:txBody>
          <a:bodyPr lIns="90000" rIns="90000" tIns="46800" bIns="46800"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През 1935 година Мария Тереза ражда дъщеря Майя. Пикасо не иска да създава ново семейство, а и майчинството не се отразява добре на външността на младата любовница, затова романът постепенно приключва. Той осигурява Мария със собствено имение, посещава  я рядко, понякога рисува майката и дъщерята, но като муза Валтер повече не го вдъхновява и привлича. По спомени на съвременници, жената не губи надежда да си върне любовта на твореца, но това не се сбъдва. Четири години след смъртта на художника Мария Тереза се обесва в гаража на дома си.</a:t>
            </a:r>
            <a:endParaRPr b="0" lang="en-US" sz="2700" spc="-1" strike="noStrike">
              <a:solidFill>
                <a:srgbClr val="4f271c"/>
              </a:solidFill>
              <a:latin typeface="Franklin Gothic Book"/>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Картина 3" descr="http://podkofeek.ru/plugins/content/jumultithumb/img.php?src=Li4vLi4vLi4vaW1hZ2VzL3N0b3JpZXMvZXNwcmVzc28vNTQ4LzExLmpwZyZhbXA7dz03MTUmYW1wO2g9MCZhbXA7cT05MA=="/>
          <p:cNvPicPr/>
          <p:nvPr/>
        </p:nvPicPr>
        <p:blipFill>
          <a:blip r:embed="rId1"/>
          <a:stretch/>
        </p:blipFill>
        <p:spPr>
          <a:xfrm>
            <a:off x="1258920" y="1125360"/>
            <a:ext cx="6697800" cy="5399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Картина 3" descr="http://podkofeek.ru/plugins/content/jumultithumb/img.php?src=Li4vLi4vLi4vaW1hZ2VzL3N0b3JpZXMvZXNwcmVzc28vNTQ4LzEyLmpwZyZhbXA7dz03MTUmYW1wO2g9MCZhbXA7cT05MA=="/>
          <p:cNvPicPr/>
          <p:nvPr/>
        </p:nvPicPr>
        <p:blipFill>
          <a:blip r:embed="rId1"/>
          <a:stretch/>
        </p:blipFill>
        <p:spPr>
          <a:xfrm>
            <a:off x="900000" y="1125360"/>
            <a:ext cx="7344000" cy="5399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Заглавие 1" descr=""/>
          <p:cNvPicPr/>
          <p:nvPr/>
        </p:nvPicPr>
        <p:blipFill>
          <a:blip r:embed="rId1"/>
          <a:stretch/>
        </p:blipFill>
        <p:spPr>
          <a:xfrm>
            <a:off x="146160" y="457200"/>
            <a:ext cx="8845560" cy="927000"/>
          </a:xfrm>
          <a:prstGeom prst="rect">
            <a:avLst/>
          </a:prstGeom>
          <a:ln w="0">
            <a:noFill/>
          </a:ln>
        </p:spPr>
      </p:pic>
      <p:sp>
        <p:nvSpPr>
          <p:cNvPr id="478" name=""/>
          <p:cNvSpPr txBox="1"/>
          <p:nvPr/>
        </p:nvSpPr>
        <p:spPr>
          <a:xfrm>
            <a:off x="-360" y="1267920"/>
            <a:ext cx="3745080" cy="558972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4f271c"/>
                </a:solidFill>
                <a:latin typeface="Franklin Gothic Book"/>
              </a:rPr>
              <a:t>          </a:t>
            </a:r>
            <a:r>
              <a:rPr b="0" lang="bg-BG" sz="2000" spc="-1" strike="noStrike">
                <a:solidFill>
                  <a:srgbClr val="4f271c"/>
                </a:solidFill>
                <a:latin typeface="Franklin Gothic Book"/>
              </a:rPr>
              <a:t>И последната, щастлива любовна история – това е романът между американския фотограф Ман Рей и танцьорката и  модела Жулиет Браунер. Те се запознават и веднага стават любовници през 1940 година, Когато Ман (истинското му име е Емануел Радницки) навършва 50 години; Жулиет е  с 21 години по-млада.    Жулиет умира през 1991 година и е погребана в един гроб със съпруга си, а на надгробния и камък е изсечен надпис «Отново заедно». </a:t>
            </a:r>
            <a:endParaRPr b="0" lang="en-US" sz="2000" spc="-1" strike="noStrike">
              <a:solidFill>
                <a:srgbClr val="4f271c"/>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271c"/>
              </a:solidFill>
              <a:latin typeface="Franklin Gothic Book"/>
            </a:endParaRPr>
          </a:p>
        </p:txBody>
      </p:sp>
      <p:pic>
        <p:nvPicPr>
          <p:cNvPr id="479" name="Картина 3" descr="http://podkofeek.ru/plugins/content/jumultithumb/img.php?src=Li4vLi4vLi4vaW1hZ2VzL3N0b3JpZXMvZXNwcmVzc28vNTQ4LzE1LmpwZyZhbXA7dz03MTUmYW1wO2g9MCZhbXA7cT05MA=="/>
          <p:cNvPicPr/>
          <p:nvPr/>
        </p:nvPicPr>
        <p:blipFill>
          <a:blip r:embed="rId2"/>
          <a:stretch/>
        </p:blipFill>
        <p:spPr>
          <a:xfrm>
            <a:off x="3635280" y="1484280"/>
            <a:ext cx="5305680" cy="43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Картина 3" descr="73274055_large_3370771_5.jpg"/>
          <p:cNvPicPr/>
          <p:nvPr/>
        </p:nvPicPr>
        <p:blipFill>
          <a:blip r:embed="rId1"/>
          <a:stretch/>
        </p:blipFill>
        <p:spPr>
          <a:xfrm>
            <a:off x="1619280" y="476280"/>
            <a:ext cx="5927760" cy="6032520"/>
          </a:xfrm>
          <a:prstGeom prst="rect">
            <a:avLst/>
          </a:prstGeom>
          <a:ln w="0">
            <a:noFill/>
          </a:ln>
          <a:effectLst>
            <a:outerShdw dist="139498" dir="2700000" blurRad="0" rotWithShape="0">
              <a:srgbClr val="333333">
                <a:alpha val="65000"/>
              </a:srgbClr>
            </a:outerShdw>
          </a:effectLst>
        </p:spPr>
      </p:pic>
      <p:sp>
        <p:nvSpPr>
          <p:cNvPr id="405" name="Текстово поле 4"/>
          <p:cNvSpPr/>
          <p:nvPr/>
        </p:nvSpPr>
        <p:spPr>
          <a:xfrm rot="1060200">
            <a:off x="4355640" y="116316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Franklin Gothic Book"/>
              </a:rPr>
              <a:t>Негови известни произведения.</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4f271c"/>
                </a:solidFill>
                <a:latin typeface="Franklin Gothic Book"/>
              </a:rPr>
              <a:t>      </a:t>
            </a:r>
            <a:endParaRPr b="0" lang="en-US" sz="3200" spc="-1" strike="noStrike">
              <a:solidFill>
                <a:srgbClr val="4f271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bg-BG" sz="3200" spc="-1" strike="noStrike">
                <a:solidFill>
                  <a:srgbClr val="4f271c"/>
                </a:solidFill>
                <a:latin typeface="Franklin Gothic Book"/>
              </a:rPr>
              <a:t>                </a:t>
            </a:r>
            <a:r>
              <a:rPr b="0" lang="bg-BG" sz="3200" spc="-1" strike="noStrike">
                <a:solidFill>
                  <a:srgbClr val="4f271c"/>
                </a:solidFill>
                <a:latin typeface="Franklin Gothic Book"/>
              </a:rPr>
              <a:t>Благодаря за вниманието!</a:t>
            </a:r>
            <a:br>
              <a:rPr sz="3200"/>
            </a:br>
            <a:r>
              <a:rPr b="0" lang="bg-BG" sz="3200" spc="-1" strike="noStrike">
                <a:solidFill>
                  <a:srgbClr val="4f271c"/>
                </a:solidFill>
                <a:latin typeface="Franklin Gothic Book"/>
              </a:rPr>
              <a:t>Дано и вие да намерите своята муза…</a:t>
            </a:r>
            <a:br>
              <a:rPr sz="3200"/>
            </a:br>
            <a:r>
              <a:rPr b="0" lang="bg-BG" sz="3200" spc="-1" strike="noStrike">
                <a:solidFill>
                  <a:srgbClr val="4f271c"/>
                </a:solidFill>
                <a:latin typeface="Franklin Gothic Book"/>
              </a:rPr>
              <a:t>                                           ….за часовете по  ИИ</a:t>
            </a:r>
            <a:endParaRPr b="0" lang="en-US" sz="3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Картина 3" descr="roden.jpg"/>
          <p:cNvPicPr/>
          <p:nvPr/>
        </p:nvPicPr>
        <p:blipFill>
          <a:blip r:embed="rId1"/>
          <a:stretch/>
        </p:blipFill>
        <p:spPr>
          <a:xfrm>
            <a:off x="2327400" y="233280"/>
            <a:ext cx="4489200" cy="6391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Картина 3" descr="20080514_0027.jpg"/>
          <p:cNvPicPr/>
          <p:nvPr/>
        </p:nvPicPr>
        <p:blipFill>
          <a:blip r:embed="rId1"/>
          <a:stretch/>
        </p:blipFill>
        <p:spPr>
          <a:xfrm>
            <a:off x="2340000" y="404640"/>
            <a:ext cx="4465440" cy="5953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лавие 1" descr=""/>
          <p:cNvPicPr/>
          <p:nvPr/>
        </p:nvPicPr>
        <p:blipFill>
          <a:blip r:embed="rId1"/>
          <a:stretch/>
        </p:blipFill>
        <p:spPr>
          <a:xfrm>
            <a:off x="334800" y="0"/>
            <a:ext cx="8553600" cy="1238400"/>
          </a:xfrm>
          <a:prstGeom prst="rect">
            <a:avLst/>
          </a:prstGeom>
          <a:ln w="0">
            <a:noFill/>
          </a:ln>
        </p:spPr>
      </p:pic>
      <p:pic>
        <p:nvPicPr>
          <p:cNvPr id="409" name="Контейнер за съдържание 3" descr="http://drugotokino.bg/sites/default/files/%287%29%20%D0%90%D0%BC%D0%B5%D0%B4%D0%B5%D0%BE%20%D0%9C%D0%BE%D0%B4%D0%B8%D0%BB%D0%B8%D0%B0%D0%BD%D0%B8%20%D0%B8%20%D0%BD%D0%B5%D0%B3%D0%BE%D0%B2%D0%B0%D1%82%D0%B0%20%D0%BC%D1%83%D0%B7%D0%B0%20%D0%96%D0%B0%D0%BD%D0%B0%20%D0%95%D0%B1%D1%8E%D1%82%D0%B5%D1%80%D0%BD.jpg"/>
          <p:cNvPicPr/>
          <p:nvPr/>
        </p:nvPicPr>
        <p:blipFill>
          <a:blip r:embed="rId2"/>
          <a:stretch/>
        </p:blipFill>
        <p:spPr>
          <a:xfrm>
            <a:off x="1619280" y="1700280"/>
            <a:ext cx="576108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68360" y="765000"/>
            <a:ext cx="8229600" cy="5832720"/>
          </a:xfrm>
          <a:prstGeom prst="rect">
            <a:avLst/>
          </a:prstGeom>
          <a:noFill/>
          <a:ln w="0">
            <a:noFill/>
          </a:ln>
        </p:spPr>
        <p:txBody>
          <a:bodyPr lIns="90000" rIns="90000" tIns="46800" bIns="46800"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bg-BG" sz="2500" spc="-1" strike="noStrike">
                <a:solidFill>
                  <a:srgbClr val="4f271c"/>
                </a:solidFill>
                <a:latin typeface="Franklin Gothic Book"/>
              </a:rPr>
              <a:t>     </a:t>
            </a:r>
            <a:r>
              <a:rPr b="0" lang="bg-BG" sz="2500" spc="-1" strike="noStrike">
                <a:solidFill>
                  <a:srgbClr val="4f271c"/>
                </a:solidFill>
                <a:latin typeface="Franklin Gothic Book"/>
              </a:rPr>
              <a:t>Италиански художник и скулптор със специфичен стил,повлиян от кубизма-фигури с изящно дълги шии и бадемови очи. Само с малка разлика във времето (в началото на XX век) и също в Париж се разиграва трагичната любовна драма на друг голям художник и неговата муза – Амедео Модилиани и Жана Ебютерн. Жана е едва 19-годишна, а Модилиани – на 33, когато пламва любовта им. През пролетта на 1918 г. Амедео и Жана напускат застрашения от германска окупация Париж и заминават за южното крайбрежие на Франция. Там Модилиани продължава да рисува като обсебен своята любима, изобразявайки я в над 25 картини, а вечерите прекарва в местните кръчми. Понякога, когато се напие, е ужасно груб към нежната си спътница, която също развива таланта си на художник и дори създава няколко интересни портрета на Амедео. .</a:t>
            </a: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8T15:20:11Z</dcterms:created>
  <dc:creator>Mariq</dc:creator>
  <dc:description/>
  <dc:language>en-US</dc:language>
  <cp:lastModifiedBy>user</cp:lastModifiedBy>
  <dcterms:modified xsi:type="dcterms:W3CDTF">2013-04-29T16:09:29Z</dcterms:modified>
  <cp:revision>9</cp:revision>
  <dc:subject/>
  <dc:title>Любовта в изобразителното изкуството</dc:title>
</cp:coreProperties>
</file>