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B60C8-4CD2-421E-A89C-D31AC6E14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1697-C32C-4B38-938F-B50228065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15A70-C4E7-4572-B7AA-211F91E98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EF0FB-1225-40BE-85C7-D0BE2CBE6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29600-7D51-4FBD-87D7-8DBC0011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B4B32-BF9F-4282-960E-F10725FE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4D44-E2B2-4AEC-B935-5F837ED3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1F9A-DEC8-4084-87B5-10EADD92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9775-0BD3-4612-86DD-9A96C8885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92F6-97CE-4098-9221-5FBB60F7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0A3F-B0F9-4AD4-883D-9F98C9A0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5ED3-3749-4D1C-83A4-00BDD67E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4570-C052-446B-8BAD-337E2DA34F9D}"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5334120"/>
            <a:ext cx="8458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ПФК БЕРОЕ</a:t>
            </a:r>
            <a:r>
              <a:rPr b="1" lang="en-US" sz="4000" spc="-1" strike="noStrike">
                <a:solidFill>
                  <a:srgbClr val="ffffff"/>
                </a:solidFill>
                <a:latin typeface="Arial"/>
              </a:rPr>
              <a:t> - </a:t>
            </a:r>
            <a:r>
              <a:rPr b="1" lang="bg-BG" sz="4000" spc="-1" strike="noStrike">
                <a:solidFill>
                  <a:srgbClr val="ffffff"/>
                </a:solidFill>
                <a:latin typeface="Arial"/>
              </a:rPr>
              <a:t> СТАРА ЗАГОР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ИЗГОТВИЛ:</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Тавит Манук Тавитян – ІІІ клас</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Частно средно общообразовател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   </a:t>
            </a:r>
            <a:r>
              <a:rPr b="1" lang="bg-BG" sz="3200" spc="-1" strike="noStrike">
                <a:solidFill>
                  <a:srgbClr val="333399"/>
                </a:solidFill>
                <a:latin typeface="Arial"/>
              </a:rPr>
              <a:t>училище “Нов век” – с. Кирило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   </a:t>
            </a:r>
            <a:r>
              <a:rPr b="1" lang="bg-BG" sz="3200" spc="-1" strike="noStrike">
                <a:solidFill>
                  <a:srgbClr val="333399"/>
                </a:solidFill>
                <a:latin typeface="Arial"/>
              </a:rPr>
              <a:t>Стара Загор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rcRect l="0" t="5051" r="50949" b="0"/>
          <a:stretch/>
        </p:blipFill>
        <p:spPr>
          <a:xfrm>
            <a:off x="6934320" y="380880"/>
            <a:ext cx="167616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533520" y="685800"/>
            <a:ext cx="8229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ървите стъпки на футбола в Стара Загора датират от 1916 г., когато се създава спортен клуб </a:t>
            </a:r>
            <a:r>
              <a:rPr b="1" lang="bg-BG" sz="1800" spc="-1" strike="noStrike">
                <a:solidFill>
                  <a:srgbClr val="ffffff"/>
                </a:solidFill>
                <a:latin typeface="Arial"/>
              </a:rPr>
              <a:t>”</a:t>
            </a:r>
            <a:r>
              <a:rPr b="0" lang="ru-RU" sz="1800" spc="-1" strike="noStrike">
                <a:solidFill>
                  <a:srgbClr val="000000"/>
                </a:solidFill>
                <a:latin typeface="Arial"/>
              </a:rPr>
              <a:t> </a:t>
            </a:r>
            <a:r>
              <a:rPr b="1" lang="ru-RU" sz="2000" spc="-1" strike="noStrike">
                <a:solidFill>
                  <a:srgbClr val="ffffff"/>
                </a:solidFill>
                <a:latin typeface="Arial"/>
              </a:rPr>
              <a:t>Вере</a:t>
            </a:r>
            <a:r>
              <a:rPr b="1" lang="bg-BG" sz="2000" spc="-1" strike="noStrike">
                <a:solidFill>
                  <a:srgbClr val="ffffff"/>
                </a:solidFill>
                <a:latin typeface="Arial"/>
              </a:rPr>
              <a:t>я”</a:t>
            </a:r>
            <a:r>
              <a:rPr b="1" lang="ru-RU" sz="2000" spc="-1" strike="noStrike">
                <a:solidFill>
                  <a:srgbClr val="ffffff"/>
                </a:solidFill>
                <a:latin typeface="Arial"/>
              </a:rPr>
              <a:t>.</a:t>
            </a:r>
            <a:endParaRPr b="0" lang="en-US" sz="2000" spc="-1" strike="noStrike">
              <a:solidFill>
                <a:srgbClr val="000000"/>
              </a:solidFill>
              <a:latin typeface="Arial"/>
            </a:endParaRPr>
          </a:p>
        </p:txBody>
      </p:sp>
      <p:sp>
        <p:nvSpPr>
          <p:cNvPr id="47" name=""/>
          <p:cNvSpPr/>
          <p:nvPr/>
        </p:nvSpPr>
        <p:spPr>
          <a:xfrm>
            <a:off x="380880" y="2895480"/>
            <a:ext cx="85345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з годините името му е било променяно на: Верея, Рекорд (от 1920 г.), Борислав, Бероя, Траяна, Светослав (от 1925 г.), Левски (от 1947 г.), Шипка, Строител (от 1949 г.), Ударник (от 1950 г.), Спартак, ДНА, Ботев (от 1957 г.), Берое (от 1959 г. след обединение на Ботев и Локомотив), Олимпик-Берое (от 1999 г. след обединение с Олимпик Тетевен) и БЕРО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48" name="" descr=""/>
          <p:cNvPicPr/>
          <p:nvPr/>
        </p:nvPicPr>
        <p:blipFill>
          <a:blip r:embed="rId1"/>
          <a:srcRect l="0" t="0" r="3000" b="0"/>
          <a:stretch/>
        </p:blipFill>
        <p:spPr>
          <a:xfrm>
            <a:off x="0" y="0"/>
            <a:ext cx="9144000" cy="6858000"/>
          </a:xfrm>
          <a:prstGeom prst="rect">
            <a:avLst/>
          </a:prstGeom>
          <a:ln w="0">
            <a:noFill/>
          </a:ln>
        </p:spPr>
      </p:pic>
      <p:sp>
        <p:nvSpPr>
          <p:cNvPr id="49" name=""/>
          <p:cNvSpPr/>
          <p:nvPr/>
        </p:nvSpPr>
        <p:spPr>
          <a:xfrm>
            <a:off x="457200" y="457200"/>
            <a:ext cx="8686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голяма победа: 8:0 срещу Миньор (Перник) (сезон 1973/197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й-голяма загуба: 2:10 срещу ЦСКА (сезон 1991/199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838080" y="304920"/>
            <a:ext cx="7543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АК БЕРОЕ ПОБЕДИ ЧЕРНОМОРЕЦ   2:1</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09480" y="182880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рдит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 най-много мачове за клуба в "А" футболна група: Евгени Янчовски- 341 мач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 най-много голове за клуба в "А" футболна група: Петко Д. Петков- 14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228600" y="3429000"/>
            <a:ext cx="83818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РОЕ - единственият отбор, изпадал някога от "А" група с положителна голова разлика и голмайстор на шампионата - (сезон 1973/1974), записвайки победи с резултат от 8:0, 8:1, 6:2, 4:0! С баланс 7 победи, 7 равенства, 16 загуби и голова разлика 50:46, 21 точ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333399"/>
                </a:solidFill>
                <a:latin typeface="Arial"/>
              </a:rPr>
              <a:t>Едноличен голмайстор за всички времена в "Б" група (абсолютен рекорд): 53 гола - Петко Петков (сезон 1974/75)</a:t>
            </a:r>
            <a:br>
              <a:rPr sz="2800"/>
            </a:br>
            <a:endParaRPr b="0" lang="en-US" sz="2800" spc="-1" strike="noStrike">
              <a:solidFill>
                <a:srgbClr val="000000"/>
              </a:solidFill>
              <a:latin typeface="Arial"/>
            </a:endParaRPr>
          </a:p>
        </p:txBody>
      </p:sp>
      <p:pic>
        <p:nvPicPr>
          <p:cNvPr id="63" name="" descr=""/>
          <p:cNvPicPr/>
          <p:nvPr/>
        </p:nvPicPr>
        <p:blipFill>
          <a:blip r:embed="rId1"/>
          <a:srcRect l="0" t="0" r="1515" b="0"/>
          <a:stretch/>
        </p:blipFill>
        <p:spPr>
          <a:xfrm>
            <a:off x="2209680" y="2819520"/>
            <a:ext cx="4876920" cy="2819160"/>
          </a:xfrm>
          <a:prstGeom prst="rect">
            <a:avLst/>
          </a:prstGeom>
          <a:ln w="0">
            <a:noFill/>
          </a:ln>
        </p:spPr>
      </p:pic>
      <p:sp>
        <p:nvSpPr>
          <p:cNvPr id="64" name="PlaceHolder 2"/>
          <p:cNvSpPr>
            <a:spLocks noGrp="1"/>
          </p:cNvSpPr>
          <p:nvPr>
            <p:ph/>
          </p:nvPr>
        </p:nvSpPr>
        <p:spPr>
          <a:xfrm>
            <a:off x="5790960" y="1523880"/>
            <a:ext cx="3352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ОТБОР</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2438280" y="457200"/>
            <a:ext cx="48769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отбор</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pron</cp:lastModifiedBy>
  <dcterms:modified xsi:type="dcterms:W3CDTF">2009-08-14T21:56:0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