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F413-56D3-40D3-8D0D-B1E96AAD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AE98-E445-4B05-B2D6-82EA5B28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BFE7-9BBF-4DC5-92B0-38937BB67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0C37-7C30-4247-9814-B0FED006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5B6B-E58D-4257-9B75-A431BFA58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B926-D92A-4D57-9330-70328E9A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40A8-832F-4F56-A8AD-17E648AD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CD60-B87D-4BE1-8C08-28058D6C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36AE-B255-49C6-AD05-ED79710E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5EA6-75BC-433C-BB5F-08680ABE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0292-B8E0-4BE3-994D-401DEE37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FA1A-6BED-494D-8879-ECBFDFA6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6674-C8A4-4A1D-94E8-EE66BF1F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79F2-AB41-431B-A517-5E50AA10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2E2F-FCC2-4291-9AF3-15F017DF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1F28-5876-47E0-BE1A-D31C55F06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230E-9900-44FB-A4CA-591C15317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A466-10CC-436C-938B-C969072B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4091-228D-4A93-B8C9-8AA75F1E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1AAD-C1ED-4379-A3A6-4CED6318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C94E-CF73-4036-ACA3-23016EC7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DA4F-B75D-4F7B-AFE8-A7A4B46E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8CCB-6C16-46F5-8375-0C78EFEF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5D60-9E83-4BC0-9F97-40F75852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314C-19F1-49C7-808C-6BA80CD0AF6B}" type="slidenum">
              <a:rPr b="0" lang="bg-BG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F4A3-5BB5-4462-9C2F-78DF59A8EC19}" type="slidenum">
              <a:rPr b="0" lang="bg-BG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rcRect l="0" t="0" r="2742" b="3244"/>
          <a:stretch/>
        </p:blipFill>
        <p:spPr>
          <a:xfrm>
            <a:off x="228600" y="304920"/>
            <a:ext cx="4724280" cy="62481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5181480" y="3429000"/>
            <a:ext cx="396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cc00"/>
                </a:solidFill>
                <a:latin typeface="Arial Black"/>
              </a:rPr>
              <a:t>Животът на Левски в Стара Загора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1523880" y="579132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 Black"/>
              </a:rPr>
              <a:t>ОБЕСВАНЕТО НА ВАСИЛ ЛЕВСКИ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 Black"/>
              </a:rPr>
              <a:t>Изготвил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cc00"/>
                </a:solidFill>
                <a:latin typeface="Arial Black"/>
              </a:rPr>
              <a:t>Кристиян Десиславов Янков ІV кл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cc00"/>
                </a:solidFill>
                <a:latin typeface="Arial Black"/>
              </a:rPr>
              <a:t>Частно средно общообразователно училищ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cc00"/>
                </a:solidFill>
                <a:latin typeface="Arial Black"/>
              </a:rPr>
              <a:t>  “</a:t>
            </a:r>
            <a:r>
              <a:rPr b="0" lang="bg-BG" sz="3200" spc="-1" strike="noStrike">
                <a:solidFill>
                  <a:srgbClr val="ffcc00"/>
                </a:solidFill>
                <a:latin typeface="Arial Black"/>
              </a:rPr>
              <a:t>Нов век” – с. Кирилово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bg-BG" sz="3200" spc="-1" strike="noStrike">
                <a:solidFill>
                  <a:srgbClr val="ffcc00"/>
                </a:solidFill>
                <a:latin typeface="Arial Black"/>
              </a:rPr>
              <a:t>Стара Загор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bg-BG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bg-BG" sz="4000" spc="-1" strike="noStrike">
                <a:solidFill>
                  <a:srgbClr val="ffffff"/>
                </a:solidFill>
                <a:latin typeface="Arial Black"/>
              </a:rPr>
              <a:t>(Васил Иванов Кунчев) е роден на 18 юли (6 юли стар стил) 1837 г. в Карлово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2666880" cy="25635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3581280" y="3352680"/>
            <a:ext cx="2184480" cy="31258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6515280" y="3367080"/>
            <a:ext cx="1847520" cy="22161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533520" y="5715000"/>
            <a:ext cx="28098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асил Левск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0160" y="2327040"/>
            <a:ext cx="3741840" cy="37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През 1851 г. баща му Иван Кунчев починал и на следващата година Васил бил поверен в ръцете  на вуйчо си - йеромонах хаджи Василий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5181480" y="1981080"/>
            <a:ext cx="3124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В продължение на шест години той изучавал църковния ред и манастирското правило, като вуйчо му бил един вид негов духовен наставник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Arial Black"/>
              </a:rPr>
              <a:t>Васил Левски,брат му Христо и Христо Иванов 1867г. в Белград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487656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През 1855 г. управата на Хилендарската обител преместила  Василий в Стара Загора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Там отишъл и послушникът Васил, като вуйчо му го записал да учи в тамошното класно училище и същевременно да пее в църковния хор на учителя Атанас Иванов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rcRect l="0" t="0" r="5226" b="0"/>
          <a:stretch/>
        </p:blipFill>
        <p:spPr>
          <a:xfrm>
            <a:off x="5003640" y="2119320"/>
            <a:ext cx="2951280" cy="22003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2"/>
          <a:srcRect l="0" t="0" r="3809" b="0"/>
          <a:stretch/>
        </p:blipFill>
        <p:spPr>
          <a:xfrm>
            <a:off x="5029200" y="4410000"/>
            <a:ext cx="31464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По това време в Ст. Загора бил устроен и едногодишен курс за бъдещи свещеници и хаджи Василий преместил племенника си в него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257800" y="3429000"/>
            <a:ext cx="2743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3276720" y="30492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4120" y="2819520"/>
            <a:ext cx="8915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След тригодишен престой в Ст. Загора, където учил две години в класното училище и една година свещенически курс, Васил Кунчев се завърнал в Карлово и приел монашески постриг под името Игнатий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менно пребиваването му в Ст. Загора оказва влияние върху избора на църковно име -  там той се запознал с житието на новия преподобномъченик Игнатий Старозагорски и е приел неговото име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 по стечение на съдбата дякон Игнатий (В. Левски) завършва живота си на бесилката в името на свободата на своя поробен народ, тъй както преподобномъченик Игнатий Старозагорски увиснал на бесилката в защита на християнската православна вяра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Единият става светец и паметта му се тачи от Църквата, а другият е национален герой и е на почит от Църква и народ..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21:54:37Z</dcterms:created>
  <dc:creator>user</dc:creator>
  <dc:description/>
  <dc:language>en-US</dc:language>
  <cp:lastModifiedBy>Sempron</cp:lastModifiedBy>
  <dcterms:modified xsi:type="dcterms:W3CDTF">2009-08-14T21:48:58Z</dcterms:modified>
  <cp:revision>3</cp:revision>
  <dc:subject/>
  <dc:title>Slide 1</dc:title>
</cp:coreProperties>
</file>