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6E79-9F87-4BF9-9E63-8D37D6D2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A5B3-AFDA-4D23-B2A2-AE2DA717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A46D-7205-4A5F-B00B-3DC0F3F5F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BE30-123D-48FF-9BB7-2AF5205F4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A451-1C01-4C65-83D8-079F08FE9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9740-9E4C-4D9C-BBD2-0FC9055A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1D0A-3ABF-4509-9654-58ADB9F6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9920-9CC3-43D7-94A2-DBE2C05F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9C7D-FC56-4C8C-8E43-0B90B1F2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4D23-CF55-4707-925D-B63CA245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D64F-9E56-4CE3-B3A9-BCA737EE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0793-5348-40CA-9BA6-103D4E5D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4D07-839A-4557-B5E7-18AE17BB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36A9-ED8A-4E03-9697-0DBD47BD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9C55-6616-4745-A634-92562AB3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0496-3399-4470-9A35-148E938B0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AE9A-AEB2-485C-8E42-32DBE57B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16C0-9C6D-4499-88B2-FCEAE982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A81A-015C-46F0-8EED-CDF52E07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D306-814C-430D-8CF6-778A135D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A956-942F-4663-815E-D198B322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7C6D-4545-40CF-AFD4-0BF1D367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400C-C651-4735-BEDB-686AA2E1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ECDA-56A0-45A8-BB0C-D434C7BA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9834-4954-4C93-9AB4-9FEDAF132C9D}" type="slidenum">
              <a:rPr b="0" lang="bg-BG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8A61-B768-49A7-A292-654CEC76B7B4}" type="slidenum">
              <a:rPr b="0" lang="bg-BG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rcRect l="0" t="0" r="2742" b="3244"/>
          <a:stretch/>
        </p:blipFill>
        <p:spPr>
          <a:xfrm>
            <a:off x="228600" y="304920"/>
            <a:ext cx="4724280" cy="62481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5181480" y="3429000"/>
            <a:ext cx="396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cc00"/>
                </a:solidFill>
                <a:latin typeface="Arial Black"/>
              </a:rPr>
              <a:t>Животът на Левски в Стара Загора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1523880" y="579132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 Black"/>
              </a:rPr>
              <a:t>ОБЕСВАНЕТО НА ВАСИЛ ЛЕВСКИ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 Black"/>
              </a:rPr>
              <a:t>Изготвил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cc00"/>
                </a:solidFill>
                <a:latin typeface="Arial Black"/>
              </a:rPr>
              <a:t>Кристиян Десиславов Янков ІV кл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cc00"/>
                </a:solidFill>
                <a:latin typeface="Arial Black"/>
              </a:rPr>
              <a:t>Частно средно общообразователно училищ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cc00"/>
                </a:solidFill>
                <a:latin typeface="Arial Black"/>
              </a:rPr>
              <a:t>  “</a:t>
            </a:r>
            <a:r>
              <a:rPr b="0" lang="bg-BG" sz="3200" spc="-1" strike="noStrike">
                <a:solidFill>
                  <a:srgbClr val="ffcc00"/>
                </a:solidFill>
                <a:latin typeface="Arial Black"/>
              </a:rPr>
              <a:t>Нов век” – с. Кирилово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bg-BG" sz="3200" spc="-1" strike="noStrike">
                <a:solidFill>
                  <a:srgbClr val="ffcc00"/>
                </a:solidFill>
                <a:latin typeface="Arial Black"/>
              </a:rPr>
              <a:t>Стара Загор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bg-BG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bg-BG" sz="4000" spc="-1" strike="noStrike">
                <a:solidFill>
                  <a:srgbClr val="ffffff"/>
                </a:solidFill>
                <a:latin typeface="Arial Black"/>
              </a:rPr>
              <a:t>(Васил Иванов Кунчев) е роден на 18 юли (6 юли стар стил) 1837 г. в Карлово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2666880" cy="25635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3581280" y="3352680"/>
            <a:ext cx="2184480" cy="31258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6515280" y="3367080"/>
            <a:ext cx="1847520" cy="22161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533520" y="5715000"/>
            <a:ext cx="28098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асил Левск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0160" y="2327040"/>
            <a:ext cx="3741840" cy="37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През 1851 г. баща му Иван Кунчев починал и на следващата година Васил бил поверен в ръцете  на вуйчо си - йеромонах хаджи Василий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5181480" y="1981080"/>
            <a:ext cx="3124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В продължение на шест години той изучавал църковния ред и манастирското правило, като вуйчо му бил един вид негов духовен наставник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Arial Black"/>
              </a:rPr>
              <a:t>Васил Левски,брат му Христо и Христо Иванов 1867г. в Белград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487656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През 1855 г. управата на Хилендарската обител преместила  Василий в Стара Загора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Там отишъл и послушникът Васил, като вуйчо му го записал да учи в тамошното класно училище и същевременно да пее в църковния хор на учителя Атанас Иванов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rcRect l="0" t="0" r="5226" b="0"/>
          <a:stretch/>
        </p:blipFill>
        <p:spPr>
          <a:xfrm>
            <a:off x="5003640" y="2119320"/>
            <a:ext cx="2951280" cy="22003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2"/>
          <a:srcRect l="0" t="0" r="3809" b="0"/>
          <a:stretch/>
        </p:blipFill>
        <p:spPr>
          <a:xfrm>
            <a:off x="5029200" y="4410000"/>
            <a:ext cx="31464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По това време в Ст. Загора бил устроен и едногодишен курс за бъдещи свещеници и хаджи Василий преместил племенника си в него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257800" y="3429000"/>
            <a:ext cx="2743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3276720" y="30492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4120" y="2819520"/>
            <a:ext cx="8915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След тригодишен престой в Ст. Загора, където учил две години в класното училище и една година свещенически курс, Васил Кунчев се завърнал в Карлово и приел монашески постриг под името Игнатий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менно пребиваването му в Ст. Загора оказва влияние върху избора на църковно име -  там той се запознал с житието на новия преподобномъченик Игнатий Старозагорски и е приел неговото име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 по стечение на съдбата дякон Игнатий (В. Левски) завършва живота си на бесилката в името на свободата на своя поробен народ, тъй както преподобномъченик Игнатий Старозагорски увиснал на бесилката в защита на християнската православна вяра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Единият става светец и паметта му се тачи от Църквата, а другият е национален герой и е на почит от Църква и народ..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21:54:37Z</dcterms:created>
  <dc:creator>user</dc:creator>
  <dc:description/>
  <dc:language>en-US</dc:language>
  <cp:lastModifiedBy>Sempron</cp:lastModifiedBy>
  <dcterms:modified xsi:type="dcterms:W3CDTF">2009-08-14T21:48:58Z</dcterms:modified>
  <cp:revision>3</cp:revision>
  <dc:subject/>
  <dc:title>Slide 1</dc:title>
</cp:coreProperties>
</file>