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D4F-E612-46E4-9109-4B5A4365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238-BC14-48D1-86CB-78C5BABC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5DB97A-0EAE-4465-B8DE-B7573CC4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38EB36-7464-4176-93A0-664EC922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2FA8C0-2F29-45CD-AA2D-62D0613D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E8B1AA-457F-4405-AA22-E1284254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C2AB55-098F-41F3-9B4E-1DC65758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0FCAAE-8F14-4F53-913E-CE6A9A4A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2B8A35-B5EE-41E4-B98C-414C6B4F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AB9AB2-AADF-4AC3-A8E2-519FDE4F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FD7ED7-3667-44CE-A5AC-B8673331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E8BB2-3301-4481-8065-E893AC8B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395-4A09-4955-B73A-10790846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18F40-DEE2-4E4C-8F78-D2B1EE54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6D67E-3AF1-47F3-B6D8-43D282A4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E803F-98D9-405D-B5B0-F34D132B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9A918-2D41-48AF-96A6-C4E5BA70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EE3D6-2EB3-47DB-8A2E-61CEE1EA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29586-AED1-473B-AF7B-E530B7F7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4FCF4-8834-4B5C-B07B-96EC6E25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9E3E0-7423-480E-9E1C-35847CBC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D803D-0550-4715-B261-7B28C29E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5B65A-F94A-48D4-87FF-6A5D4BC0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CA2-029F-4C56-856C-D31D6CF6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D1D80-0FE3-4922-959A-3B3CC0D6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AA8A-9B27-4CBB-85F1-1642B928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9B1C-A052-40EE-B634-EFB98AC7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1869-C4EB-4923-9B38-83CD2186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4B8D-5139-44E4-8F52-EC10C6CA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205D-2309-4E21-932B-154902BD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A676-19A3-4784-B536-ECEF4CBF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A91F-7EFB-41E7-ABA7-089F3D9A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D12-2F75-4287-8E19-044866B7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B7A4-4FF8-4F43-B38B-D8A5C7EA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6E3D-B6C0-4413-AC9A-8C99FDED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15A6-2D2A-4795-ABD7-C78FCFE9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EE1B-3B49-4AD7-95D7-C1180D06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7A96-714D-4719-A636-277275DB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5582-035A-4453-AD10-BDA5DDEA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531F-B327-49E4-A514-1BEA14E7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E48C0-EA23-4A6D-BB07-F5829913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35B9-028E-428B-AC1D-C918537E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DA9F-E13A-45F1-B3D1-5B7CFCBA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891-B5C7-4D3B-B870-26A970E5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E860-38CC-4225-BEEE-B3C3F424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77CF8-D694-418B-847F-94DB0EE4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3007-0CDB-4B2C-8D10-87BAB400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AB2D-B579-4B11-B670-A847F4F4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4608-BFB2-4D08-AFC0-C6375901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64E69-2CF8-4BB4-B9A5-49397F1F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73CA-2CEC-4ECE-B2A7-138C3F86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9AFB3-6338-49EB-AC25-20533072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4D54B-9251-4A86-BA1D-B411FAA8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D296-3848-49BB-B8A9-4D843B75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EFA-47CE-48FC-B002-8FB9C612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DBE3E-42EA-44AF-81CD-8F2FC879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64267-FE21-4E32-B7A6-D8AC697E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D94A-16EA-4BA8-9560-EF568A58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2CB56-6084-463E-BAA3-B0E17AC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1260F-BA9D-47E3-9F4E-3029E2D0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143A5-7910-4E1C-8773-B4A10816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5777B-3298-4C40-B21C-019622C8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C1C9B-C805-436D-94BB-95EB6E6C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8ACA-D59E-45BC-B278-9F19B898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4649C-61EC-45E2-BDDF-533F696F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708-0E37-4606-A372-9A4B60B2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18711-D204-4A80-86A6-B5F0DB17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CB3DD-68A3-4A04-97F4-FB7C9090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E78F-6675-4BE2-865C-10F42E80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DE175-D066-4F95-B0B1-D4157B89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F0731-CF6C-452C-A3BF-50DF03E6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9C1F8-E396-4E6E-9F57-AE13C0B0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33A07-E4A3-418A-B8B4-129B8D7E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260FF-575C-409A-B51A-FAEA2DF1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05F4F-F6CC-41D5-875A-CC803B60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A8542-D8FF-44BA-8B1A-703CBB4F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356-725E-40E9-81C4-DD912BE8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35D14-2767-4CBA-84D4-4BCA2E38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3A7BB-9C84-4641-92E2-540DDD75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AAD9B-EAC0-461F-A26A-FD7D3939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253EF-D18B-4C55-AC7B-0BC95727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DB7CB-1AE6-4E41-B602-DBB5D92B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A7C85-01F3-44C0-B7F1-7F760A57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F8FD4-9AFD-4DA9-B364-4D9A83B8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855E9-8CFE-4D93-88BF-5CB06C8B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0C72B-072D-4A83-86BD-758C3012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5C6F8-9094-410C-9863-ACA1C9AA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E91-64D1-46D2-8D63-9010149C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D5146-88D7-4720-AA15-3ECCA1C6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FE05E-D04B-4C5B-9ADF-91DB0300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3A95F-38E8-4632-A5A8-373ADF56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66013-1E70-4042-8C23-98D9121B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75978-3C2C-4305-9097-A616F644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7E9AA-0A98-4B4A-A941-9CB1EF52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71D0D-08FD-47E8-8153-0D333062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69D4D-99EF-4AF6-8B5E-9BC8C80E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DA125-8B44-4C83-AAB2-D596F12B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6F4FD-E6D8-4143-997F-F12EDE89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21E-D416-469D-9669-D9A9704A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F5C98-A30B-4D26-A58F-975AB459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EDBA8-9A34-45E7-AD41-AC4069F9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6B99D-A5A1-4771-91AB-F5E71550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7D8F6-808F-4F61-B29A-057F25FC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D89A7-F5C2-4870-AFF4-EA8A769B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1A0F3-A90D-40E5-8460-B65A5178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50686-2AB1-44FA-BA97-1057962A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D77F5-74F9-4828-9BFD-FC749D10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308D9-24F1-410B-8FD2-D1402203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4C293-21A7-4143-BBDA-0C24D163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DB1-E538-4838-9FC1-EDD8264E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38EAC-3A9B-4654-B08B-E79787B2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106D2-B855-4445-BDA0-7B2F75FD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4FA22-45B9-4252-B6B8-394A6759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6ED8A-EC27-4291-809B-C6E50D4D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A379D-3762-41EF-9942-F47BAA76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2344B-929F-49C8-AB05-36CFED86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1C59F-A3B3-416D-9B75-B3AAC513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A36C88-62AF-4FA8-88C1-1BEAFB7B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4C5552-5910-478F-B5CE-FC712C1A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ACF692-B54A-4BD2-AF56-DA1F1B2A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bg-BG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32A0-8324-4D40-BD0F-BFCB3E9C7E96}" type="slidenum">
              <a:rPr b="1" lang="bg-BG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2f978d"/>
                </a:gs>
                <a:gs pos="100000">
                  <a:srgbClr val="70cac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8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2C89-F25E-450B-BE19-BDCCBAAC1D09}" type="slidenum">
              <a:rPr b="0" lang="bg-BG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bg-BG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C213-27F8-48DD-A435-E650525B945B}" type="slidenum">
              <a:rPr b="1" lang="bg-BG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5F0D-040F-457C-A76E-2B2655E91892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BB9F-668C-4086-AF5C-A6C5CCA0315A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3F07-40F0-4847-B257-7084F6650D6E}" type="slidenum">
              <a:rPr b="0" lang="bg-BG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2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3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5161-1FCB-4477-8FE9-8CEDF172ABC3}" type="slidenum">
              <a:rPr b="0" lang="bg-BG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4D9C-B6C7-46FB-83EF-AC6B15BDC706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76D6-D661-4A32-A046-7B0313A56225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5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8DEA-4DB3-4EA7-BE45-EC9D94E38097}" type="slidenum">
              <a:rPr b="0" lang="bg-BG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2f978d"/>
                </a:gs>
                <a:gs pos="100000">
                  <a:srgbClr val="70cac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2f978d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3366"/>
                </a:solidFill>
                <a:latin typeface="American-Uncial-Normal"/>
              </a:rPr>
              <a:t>ХУДОЖЕСТВЕНА ГАЛЕРИЯ СТАРА ЗАГОР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2700360" y="285228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6666"/>
                </a:solidFill>
                <a:latin typeface="American-Uncial-Normal"/>
              </a:rPr>
              <a:t>ХУДОЖНИЦИ</a:t>
            </a:r>
            <a:r>
              <a:rPr b="0" lang="bg-BG" sz="2800" spc="-1" strike="noStrike">
                <a:solidFill>
                  <a:srgbClr val="006666"/>
                </a:solidFill>
                <a:latin typeface="American-Uncial-Norm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324000" y="5013360"/>
            <a:ext cx="88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НТИЧЕН ФОРУМ НА АВГУСТА ТРАЯНА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Лично творчество на автора на презентацията – Теодор Евгениев Яне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Школа по изобразително изкуство “Родина”, учител Мариана Алипие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Изготвил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Теодор Евгениев Янев – V кл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Частно средно общообразовател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училище “Нов век” – с. Кирилов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тара Заг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6666"/>
                </a:solidFill>
                <a:latin typeface="Megen Rus"/>
              </a:rPr>
              <a:t>ХУДОЖЕСТВЕНА ГАЛЕРИЯ</a:t>
            </a:r>
            <a:br>
              <a:rPr sz="2400"/>
            </a:br>
            <a:r>
              <a:rPr b="1" i="1" lang="bg-BG" sz="2400" spc="-1" strike="noStrike">
                <a:solidFill>
                  <a:srgbClr val="006666"/>
                </a:solidFill>
                <a:latin typeface="Megen Rus"/>
              </a:rPr>
              <a:t> СТАРА ЗАГОР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3366"/>
                </a:solidFill>
                <a:latin typeface="Arial Narrow"/>
              </a:rPr>
              <a:t>Създаването на Художествената галерия в Стара Загора започва през 1908 година.</a:t>
            </a:r>
            <a:br>
              <a:rPr sz="1800"/>
            </a:br>
            <a:r>
              <a:rPr b="1" i="1" lang="bg-BG" sz="1800" spc="-1" strike="noStrike">
                <a:solidFill>
                  <a:srgbClr val="003366"/>
                </a:solidFill>
                <a:latin typeface="Arial Narrow"/>
              </a:rPr>
              <a:t> По инициатива на Антон Митов, Георги Евстатиев, Васил Димов, Атанас Михов и Васил Маринов се събира малка колекция от техни творби, която да послужи за онагледяване на часовете по рисуване в училищата на родния им град и да заложи бъдещото оформяне на художествена галерия.</a:t>
            </a:r>
            <a:br>
              <a:rPr sz="1800"/>
            </a:br>
            <a:r>
              <a:rPr b="1" i="1" lang="bg-BG" sz="1800" spc="-1" strike="noStrike">
                <a:solidFill>
                  <a:srgbClr val="003366"/>
                </a:solidFill>
                <a:latin typeface="Arial Narrow"/>
              </a:rPr>
              <a:t> В начинанието се включват Иван Мърквичка, Петко Клисуров и други. </a:t>
            </a:r>
            <a:br>
              <a:rPr sz="1800"/>
            </a:br>
            <a:br>
              <a:rPr sz="1800"/>
            </a:br>
            <a:r>
              <a:rPr b="1" i="1" lang="bg-BG" sz="1800" spc="-1" strike="noStrike">
                <a:solidFill>
                  <a:srgbClr val="003366"/>
                </a:solidFill>
                <a:latin typeface="Arial Narrow"/>
              </a:rPr>
              <a:t>Taкa оформената сбирка е обособена като картинна част в археологическото дружество "Августа Траяна".</a:t>
            </a:r>
            <a:r>
              <a:rPr b="0" i="1" lang="bg-BG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3366"/>
                </a:solidFill>
                <a:latin typeface="Arial Narrow"/>
              </a:rPr>
              <a:t> </a:t>
            </a:r>
            <a:r>
              <a:rPr b="1" i="1" lang="bg-BG" sz="1800" spc="-1" strike="noStrike">
                <a:solidFill>
                  <a:srgbClr val="003366"/>
                </a:solidFill>
                <a:latin typeface="Arial Narrow"/>
              </a:rPr>
              <a:t>С годините тя се разраства. Свои произведения добавят в нея свързаните с града Димитър Гюдженов, Hикoлa Кожухаров, Кипро Николов, Васил Костакиев, Николай Евров и редица художници от страната.</a:t>
            </a: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6666"/>
                </a:solidFill>
                <a:latin typeface="Megen Rus"/>
              </a:rPr>
              <a:t>ХУДОЖЕСТВЕНА ГАЛЕРИЯ</a:t>
            </a:r>
            <a:br>
              <a:rPr sz="2400"/>
            </a:br>
            <a:r>
              <a:rPr b="1" i="1" lang="bg-BG" sz="2400" spc="-1" strike="noStrike">
                <a:solidFill>
                  <a:srgbClr val="006666"/>
                </a:solidFill>
                <a:latin typeface="Megen Rus"/>
              </a:rPr>
              <a:t> СТАРА ЗАГОР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3366"/>
                </a:solidFill>
                <a:latin typeface="Arial"/>
              </a:rPr>
              <a:t>До 1959 година се води като отдел на Историческия музей, след което е обявена за самостоятелна градска художествена галерия. </a:t>
            </a:r>
            <a:br>
              <a:rPr sz="2800"/>
            </a:br>
            <a:r>
              <a:rPr b="1" i="1" lang="bg-BG" sz="2800" spc="-1" strike="noStrike">
                <a:solidFill>
                  <a:srgbClr val="003366"/>
                </a:solidFill>
                <a:latin typeface="Arial"/>
              </a:rPr>
              <a:t>В над деветдесетгодишната си история Старозагорската художествена галерия е организирала повече от хиляда изложби и експозиции, част от които са гостували на галериите в страната, кaктo и на галерии в Чехия, Португалия, Великобритания, Русия, Босна и Херцеговина, Словакия, Индия, Сърбия, Германия.</a:t>
            </a: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merican-Uncial-Normal"/>
              </a:rPr>
              <a:t>M</a:t>
            </a:r>
            <a:r>
              <a:rPr b="0" lang="bg-BG" sz="3200" spc="-1" strike="noStrike">
                <a:solidFill>
                  <a:srgbClr val="006666"/>
                </a:solidFill>
                <a:latin typeface="American-Uncial-Normal"/>
              </a:rPr>
              <a:t>арио Жеков</a:t>
            </a:r>
            <a:r>
              <a:rPr b="0" lang="bg-BG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1" i="1" lang="bg-BG" sz="1800" spc="-1" strike="noStrike">
                <a:solidFill>
                  <a:srgbClr val="006666"/>
                </a:solidFill>
                <a:latin typeface="Arial"/>
              </a:rPr>
              <a:t>1898 – 1955</a:t>
            </a: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2349000"/>
            <a:ext cx="37753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Името му е Марин Жеков Тодоров. Живее 57 години. Две трети от тях преминават в пътуване и творчество. Създава стотици картини и остава сред четирите най-големи майстори на морския пейзаж. Десетилетия наред името му е по-известно в чужбина отколкото в България. Съдбата на Марио Жеков е изцяло свързана с изкуството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Роден на 16.10.1898 г. в Стара Загора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Още в ранните му творби техниката му на живописец е завидна, а усещането за светлина, въздух и пространство - впечатляващо. Обича залеза - мистиката на неговите силуети и дългите сенки. Животът му е в живописта, там сред природата, където намира видимия образ на своите чувства. На фона на десетките талантливи художници влюбени в природата, малцина са ония - усетилите духа на морето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Създава десетки платна и акварели. В тях има и усещането за вода и мирис на море, заспалите в сянка селца и изпепеляващата светлина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Умира на 03.08.1955 г. в София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Стотици, хиляди художници рисуват морето. Разбрали са го малко: Александър Мутафов, Марио Жеков, Христо Каварналиев, Йордан Кювлиев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Д-р Марин Добрев - изкуствовед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merican-Uncial-Normal"/>
              </a:rPr>
              <a:t>M</a:t>
            </a:r>
            <a:r>
              <a:rPr b="0" lang="bg-BG" sz="3600" spc="-1" strike="noStrike">
                <a:solidFill>
                  <a:srgbClr val="006666"/>
                </a:solidFill>
                <a:latin typeface="American-Uncial-Normal"/>
              </a:rPr>
              <a:t>арио Жеков</a:t>
            </a:r>
            <a:r>
              <a:rPr b="0" lang="bg-BG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r>
              <a:rPr b="1" i="1" lang="bg-BG" sz="2000" spc="-1" strike="noStrike">
                <a:solidFill>
                  <a:srgbClr val="006666"/>
                </a:solidFill>
                <a:latin typeface="Arial"/>
              </a:rPr>
              <a:t>1898 – 1955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rcRect l="0" t="0" r="4429" b="0"/>
          <a:stretch/>
        </p:blipFill>
        <p:spPr>
          <a:xfrm>
            <a:off x="2936880" y="2859120"/>
            <a:ext cx="2571840" cy="18288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1576440" cy="21445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5940360" y="1484280"/>
            <a:ext cx="1930320" cy="25923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4284720" y="4221000"/>
            <a:ext cx="3095640" cy="23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Megen Rus"/>
              </a:rPr>
              <a:t>АНТОН МИТОВ</a:t>
            </a:r>
            <a:br>
              <a:rPr sz="2400"/>
            </a:br>
            <a:r>
              <a:rPr b="0" lang="bg-BG" sz="2000" spc="-1" strike="noStrike">
                <a:solidFill>
                  <a:srgbClr val="ffffff"/>
                </a:solidFill>
                <a:latin typeface="Garamondcond-Bold-Italic"/>
              </a:rPr>
              <a:t>1862-193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bg-BG" sz="1600" spc="-1" strike="noStrike">
                <a:solidFill>
                  <a:srgbClr val="ffffff"/>
                </a:solidFill>
                <a:latin typeface="Arial Narrow"/>
              </a:rPr>
              <a:t>Живописец, художествен критик и историк на изкуството. Роден в Ст. Загора на 01.04.1862 г. Завършва живопис във Флоренция. През годините 1885-1890 работи в Пловдив. Един от основателите на Дружеството за поддържане на изкуството в България. Работата му като художник обхваща почти всички жанрове и техники на живописта. Рисува битови сцени, икони и стенописи, илюстрира книги и др. Автор на История на изкуствата в осем части. Умира в София през 1930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00720" y="3594240"/>
            <a:ext cx="4032000" cy="24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77080" y="333360"/>
            <a:ext cx="1942920" cy="33336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4572000" y="3684600"/>
            <a:ext cx="3672000" cy="29462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cc"/>
                </a:solidFill>
                <a:latin typeface="American-Uncial-Normal"/>
              </a:rPr>
              <a:t>Никола Кожухаров </a:t>
            </a:r>
            <a:br>
              <a:rPr sz="4400"/>
            </a:b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1892 – 1971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2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ffffff"/>
                </a:solidFill>
                <a:latin typeface="Arial Narrow"/>
              </a:rPr>
              <a:t>Роден на 11.01.1892г. в Казанлъ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ffffff"/>
                </a:solidFill>
                <a:latin typeface="Arial Narrow"/>
              </a:rPr>
              <a:t>Завършва живопис в Художествената академия - София при проф. И. Мърквичка и проф. Ц. Тодоров през 191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ffffff"/>
                </a:solidFill>
                <a:latin typeface="Arial Narrow"/>
              </a:rPr>
              <a:t>Специализира в Академията за изящни изкуства в Париж при проф. Фернан Кормон през 191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ffffff"/>
                </a:solidFill>
                <a:latin typeface="Arial Narrow"/>
              </a:rPr>
              <a:t>Представител на символизма в българското изкуство. Един от основоположниците на баталния и историческия жанр в българското изку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ffffff"/>
                </a:solidFill>
                <a:latin typeface="Arial Narrow"/>
              </a:rPr>
              <a:t>Умира на 01.04.1971 г. в София.</a:t>
            </a: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merican-Uncial-Normal"/>
              </a:rPr>
              <a:t>Димитър Караджов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900"/>
            </a:br>
            <a:r>
              <a:rPr b="0" i="1" lang="bg-BG" sz="2400" spc="-1" strike="noStrike">
                <a:solidFill>
                  <a:srgbClr val="ffffff"/>
                </a:solidFill>
                <a:latin typeface="Arial"/>
              </a:rPr>
              <a:t>1907 – 2000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90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Роден е на 31 юли 1907 г. в Стара Загора. От 1924 до 1930 г. учи живопис при проф. Стефан Иванов и проф. Борис Митов в Държавната художествена академия. През 1931 г. е назначен за преподавател по рисуване в Първа старозагорска гимназия. През 1940 е назначен за преподавател, а през 1943 г. - за заместник-директор на Старозагорската девическа гимназия. Участва в основаването на Дружеството на художниците в града. От 1949 до 1962 г. е преподавател в Института за начални учители и в Педагогическото училище в Стара Загор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През 1993 г. е удостоен със званието “Почетен гражданин на Стара Загора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Стихосбирката му “Отломки от неизграденото” излиза през 1995 г., а през 2003 излиза от печат подготвената приживе книга "Цветя в огледалото" - стихотворения от френски, немски и руски поети, преведени от Димитър Карадж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На 13 април 2000 г. Стара Загора се сбогува с нег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Живописното творчество на Димитър Караджов е посветено на пейзажа, натюрморта и портрета. Голяма част от картините му са пряко свързани с родния град.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330696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merican-Uncial-Normal"/>
              </a:rPr>
              <a:t>ДИМИТЪР ГЮДЖЕНОВ</a:t>
            </a:r>
            <a:br>
              <a:rPr sz="4400"/>
            </a:b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891-197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066920" y="1341000"/>
            <a:ext cx="4537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Роден на 26.01.1891г.в Стара Заго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Проф. </a:t>
            </a:r>
            <a:r>
              <a:rPr b="1" i="1" lang="bg-BG" sz="1400" spc="-1" strike="noStrike">
                <a:solidFill>
                  <a:srgbClr val="ffffff"/>
                </a:solidFill>
                <a:latin typeface="Arial"/>
              </a:rPr>
              <a:t>Димитър Гюдженов</a:t>
            </a: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 е български художник, известен със своите картини на военна и </a:t>
            </a:r>
            <a:r>
              <a:rPr b="1" i="1" lang="bg-BG" sz="1400" spc="-1" strike="noStrike">
                <a:solidFill>
                  <a:srgbClr val="ffffff"/>
                </a:solidFill>
                <a:latin typeface="Arial"/>
              </a:rPr>
              <a:t>историческа</a:t>
            </a: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 тематика, често използвани за илюстрации в енциклопедии и учебници по </a:t>
            </a:r>
            <a:r>
              <a:rPr b="1" i="1" lang="bg-BG" sz="1400" spc="-1" strike="noStrike">
                <a:solidFill>
                  <a:srgbClr val="ffffff"/>
                </a:solidFill>
                <a:latin typeface="Arial"/>
              </a:rPr>
              <a:t>българска история</a:t>
            </a: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През 1959 г. на </a:t>
            </a:r>
            <a:r>
              <a:rPr b="0" i="1" lang="bg-BG" sz="1400" spc="-1" strike="noStrike" u="sng">
                <a:solidFill>
                  <a:srgbClr val="ffffcc"/>
                </a:solidFill>
                <a:uFillTx/>
                <a:latin typeface="Arial"/>
              </a:rPr>
              <a:t>Димитър Гюдженов</a:t>
            </a: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 и проф. Никола Кожухаров е поверено изписването на старозагорската църква„Свети Димитър“.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403280" y="4653000"/>
            <a:ext cx="3095640" cy="20588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943000" cy="30477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5003640" y="4005360"/>
            <a:ext cx="35276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5:10:17Z</dcterms:created>
  <dc:creator>None</dc:creator>
  <dc:description/>
  <dc:language>en-US</dc:language>
  <cp:lastModifiedBy>Sempron</cp:lastModifiedBy>
  <dcterms:modified xsi:type="dcterms:W3CDTF">2009-08-14T21:49:50Z</dcterms:modified>
  <cp:revision>17</cp:revision>
  <dc:subject/>
  <dc:title>Slide 1</dc:title>
</cp:coreProperties>
</file>