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6A8-CCF1-455C-BA2A-9D5D8060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322-A664-4E12-BA5B-4B087C38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D55BF8-2F1D-4D4E-929F-7559D0C1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CAA86-E4A9-4E54-99FB-D6A1CCD8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A1DF73-E91E-41D7-B2CE-5F160819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00F79E-86D1-4451-9C42-80D9E2A2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9597E6-A0B7-473D-8823-16A5CA0E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7D0B57-2112-4DDF-A019-FD00FA3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B1DD8A-7F7E-4CDC-958C-2F16F2EE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12B772-FA46-43E4-AC01-B661D0A0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3706C3-E723-4F6E-8E6B-9E6E8F9D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92C91-3E0A-463C-86A1-73930776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C20-1678-4C43-A8CA-172AFD2F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8B8A0-6826-4CCD-94A4-05B829FB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8CACD-0FB2-47AE-A374-849655F1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17129-D054-4CE8-937E-1A77A707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7EAAA-2F2B-4D14-81A7-573553A9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B0012-2FFB-4C70-B14A-9F586DB1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4657B-70F6-4CF7-A948-F233D8E9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B3012-1DED-40F0-B436-C164B7D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0E8D5-6C22-4E96-8DDA-BDA79B77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E8099-BC49-49EC-B106-A84751A3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21041-0559-4E91-94A6-E379D60A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F31-D574-494E-925E-AC9528ED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47417-587A-41B8-9053-93CF7768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96B2-8D31-454F-B78D-448EEF12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13A8-F3B0-4679-9BC8-6F63717D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C254-8CCB-4976-B09E-654D1E95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533E-7A0A-4385-9E2A-C8059171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10FB-1D83-4FE8-A693-FBEC9339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F5DD-96DD-4075-ABD2-C391AF01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A177-C1FF-4858-9136-3DD36C65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0A4-657E-4550-81DE-653BD608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BACC-829F-4388-8998-177DFE17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8FAE-97F3-4F89-B696-A5105364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303A-F68C-4DF6-834C-CD5C0FF9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3E71-8749-45A5-88FB-68092064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89CC-6EAC-4A32-BE72-ACC8F494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5FDC-3C79-4AB0-AFA3-C8A4C9BC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9DDB4-3385-41B6-85D4-BD37B00B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1009-DB2A-4F44-997C-3F4CD185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A379-6696-4B96-9D6F-D3CD0FB2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237E7-10EB-47DF-977E-8FE9FD26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7C4-276D-48B5-9CDD-7F4BDA69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16B1-76E7-494A-B112-7562A085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54D4-9787-4D63-9913-08F2D0B6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76731-F387-44FB-9231-18B11AD8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1122-A6BD-4437-9535-74F51E65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686A8-03A8-44FD-BA34-D3C32B3A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20EE-53AB-47D6-A425-C51D4893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3A33-244C-4A7E-8813-EDA26EFE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D27A-B7C5-4A9A-BCB3-A7132B2F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1114F-F438-4A00-9D7A-257CB09A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966FD-75DF-4E03-A77E-1F2CA03C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9EF-F2A3-4DE0-B072-C132EC7D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292BF-6270-466A-AFC6-F6DC61C4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E4228-B3A6-42A7-B75E-87743095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A1D2F-72E8-423F-9D45-7CDA5AFE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E6972-3EAA-4AAD-81CE-15C64286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1B8E1-7AD5-4999-B4EC-A5ABD08A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36CC0-81AE-471F-8C15-CCFC706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8FF5D-6E8C-4A28-898C-E1DA72ED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D32AB-ED57-446A-B62E-EAC403C6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6D933-C7FB-4032-93D3-88E13B42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08C13-4E07-49A9-B359-6AA42929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989-421A-4B36-BBBA-CE8C85A9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BB2EA-7427-4D9A-8CE4-9A28ED66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DB3E0-08C6-4D77-956A-15356AEB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BFD9F-C52D-4B7A-A78D-4A519B7A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5AE4C-19D6-47AB-99C4-4A4C7D23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5C95E-5703-4A0A-A868-C800B15B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F3521-D40E-4F1F-A751-6514A288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251B2-92DD-4C6A-BBDC-1E33C849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51DD3-38ED-4734-99F5-4217531E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7DE88-1BC9-48FC-B746-77945222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080BA-9FE2-4729-BED9-7A5EAB7A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73C-448D-4791-A6EA-026A59A9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704B5-7677-4B8D-9FFD-A7888C5E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45B17-FD4E-4ADF-9AF7-0F896F23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80B83-4D60-4D4E-8E5E-E78A5C10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C236F-A2EA-42AD-9FEB-7C70F48B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5882F-310F-42C0-9C27-59B52A86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32884-FEDD-4A94-B312-5EA2A135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E7771-772E-41E3-B64B-6B1069CC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313F6-93A2-4526-85CE-6E3CF175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5149C-0B2F-4D00-BA34-C0FBCBDD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67205-1786-45C9-90EF-1E7056EC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37B-F46D-460D-A40F-BC5DFA9B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AB7C6-98A1-467F-B8BB-9B93F43D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D1072-7A5B-4707-91AE-2AB64139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85851-3568-440B-93E6-4497C736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D544B-6688-4225-9143-32789309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8C23C-1E8F-40CF-AD75-0674ADA5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964A2-F452-4E38-A66C-716E01D6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41181-A63E-4AE9-8D46-26CA186E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AC35E-1205-4FEF-91DC-8089897B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E2797-ECD1-437E-9BFC-14876BEE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DA2E0-610E-4B28-8850-865F10C7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60D-3AC3-4E84-B26E-E02020FB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5D686-CF44-425D-8011-B462F840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F4AE8-2D55-4B8D-81A4-029ED9FE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6F78D-B0DE-4F2B-BB8F-450499DE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1A6AD-51BB-4761-A95B-8002208B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2BA80-563B-4884-BEF0-59281A0B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7BD09-72E3-46A7-B797-7E524AAD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B9A5C-EF26-480A-8461-5DB4B1EF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71FB8-36DD-4349-AF88-EEC5EA79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AB2E4-6403-495A-89B9-248CD95F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E3140-9057-462F-AD0A-404188D8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18B-AAD1-4812-A897-FD1EB70C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1E57C-1A8A-45C8-BFEF-BFABFB98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8F440-5D7B-4146-9D96-0DDD85F5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3A339-5BBF-4E18-BD13-7765255C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DBA89-D09D-4778-A360-41CC3210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2D825-9890-44D5-B511-9E39C875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24C8B-DDAA-4358-B3C5-35ADAB78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DA16A-A3AB-4CBE-9145-8C86B399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23A779-FE26-4414-A462-275A4802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876FC4-88B6-4E00-AE35-478C9C5D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88FA37-BA3A-4258-B4C0-AD83A193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bg-BG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7718-4893-4581-A1A2-05F3211B46A4}" type="slidenum">
              <a:rPr b="1" lang="bg-BG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2f978d"/>
                </a:gs>
                <a:gs pos="100000">
                  <a:srgbClr val="70cac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8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0AA7-67F5-4C57-8589-C87212AFA20A}" type="slidenum">
              <a:rPr b="0" lang="bg-BG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bg-BG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BC79-9AF0-493D-AFB2-E9379F41223F}" type="slidenum">
              <a:rPr b="1" lang="bg-BG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691A-BCD6-478B-B6E7-B2178AF49718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FCFB-AF17-4687-9699-195732CCFA94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800D-C22E-480C-B2FD-6F6C33E55257}" type="slidenum">
              <a:rPr b="0" lang="bg-BG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2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3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A6AC-CE54-4519-BC11-856BB4E436BC}" type="slidenum">
              <a:rPr b="0" lang="bg-BG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46F0-66B3-4A07-B08A-ED4E2964B892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91B2-EC09-495C-8837-372285BD716B}" type="slidenum"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5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C2BA-2517-4173-8B0F-2C6256AFC4AF}" type="slidenum">
              <a:rPr b="0" lang="bg-BG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2f978d"/>
                </a:gs>
                <a:gs pos="100000">
                  <a:srgbClr val="70cac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2f978d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3366"/>
                </a:solidFill>
                <a:latin typeface="American-Uncial-Normal"/>
              </a:rPr>
              <a:t>ХУДОЖЕСТВЕНА ГАЛЕРИЯ СТАРА ЗАГОР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2700360" y="285228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6666"/>
                </a:solidFill>
                <a:latin typeface="American-Uncial-Normal"/>
              </a:rPr>
              <a:t>ХУДОЖНИЦИ</a:t>
            </a:r>
            <a:r>
              <a:rPr b="0" lang="bg-BG" sz="2800" spc="-1" strike="noStrike">
                <a:solidFill>
                  <a:srgbClr val="006666"/>
                </a:solidFill>
                <a:latin typeface="American-Uncial-Norm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324000" y="5013360"/>
            <a:ext cx="88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АНТИЧЕН ФОРУМ НА АВГУСТА ТРАЯНА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Лично творчество на автора на презентацията – Теодор Евгениев Яне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Школа по изобразително изкуство “Родина”, учител Мариана Алипие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Изготвил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Теодор Евгениев Янев – V кл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Частно средно общообразовател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училище “Нов век” – с. Кирилов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Стара Заг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6666"/>
                </a:solidFill>
                <a:latin typeface="Megen Rus"/>
              </a:rPr>
              <a:t>ХУДОЖЕСТВЕНА ГАЛЕРИЯ</a:t>
            </a:r>
            <a:br>
              <a:rPr sz="2400"/>
            </a:br>
            <a:r>
              <a:rPr b="1" i="1" lang="bg-BG" sz="2400" spc="-1" strike="noStrike">
                <a:solidFill>
                  <a:srgbClr val="006666"/>
                </a:solidFill>
                <a:latin typeface="Megen Rus"/>
              </a:rPr>
              <a:t> СТАРА ЗАГОР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3366"/>
                </a:solidFill>
                <a:latin typeface="Arial Narrow"/>
              </a:rPr>
              <a:t>Създаването на Художествената галерия в Стара Загора започва през 1908 година.</a:t>
            </a:r>
            <a:br>
              <a:rPr sz="1800"/>
            </a:br>
            <a:r>
              <a:rPr b="1" i="1" lang="bg-BG" sz="1800" spc="-1" strike="noStrike">
                <a:solidFill>
                  <a:srgbClr val="003366"/>
                </a:solidFill>
                <a:latin typeface="Arial Narrow"/>
              </a:rPr>
              <a:t> По инициатива на Антон Митов, Георги Евстатиев, Васил Димов, Атанас Михов и Васил Маринов се събира малка колекция от техни творби, която да послужи за онагледяване на часовете по рисуване в училищата на родния им град и да заложи бъдещото оформяне на художествена галерия.</a:t>
            </a:r>
            <a:br>
              <a:rPr sz="1800"/>
            </a:br>
            <a:r>
              <a:rPr b="1" i="1" lang="bg-BG" sz="1800" spc="-1" strike="noStrike">
                <a:solidFill>
                  <a:srgbClr val="003366"/>
                </a:solidFill>
                <a:latin typeface="Arial Narrow"/>
              </a:rPr>
              <a:t> В начинанието се включват Иван Мърквичка, Петко Клисуров и други. </a:t>
            </a:r>
            <a:br>
              <a:rPr sz="1800"/>
            </a:br>
            <a:br>
              <a:rPr sz="1800"/>
            </a:br>
            <a:r>
              <a:rPr b="1" i="1" lang="bg-BG" sz="1800" spc="-1" strike="noStrike">
                <a:solidFill>
                  <a:srgbClr val="003366"/>
                </a:solidFill>
                <a:latin typeface="Arial Narrow"/>
              </a:rPr>
              <a:t>Taкa оформената сбирка е обособена като картинна част в археологическото дружество "Августа Траяна".</a:t>
            </a:r>
            <a:r>
              <a:rPr b="0" i="1" lang="bg-BG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3366"/>
                </a:solidFill>
                <a:latin typeface="Arial Narrow"/>
              </a:rPr>
              <a:t> </a:t>
            </a:r>
            <a:r>
              <a:rPr b="1" i="1" lang="bg-BG" sz="1800" spc="-1" strike="noStrike">
                <a:solidFill>
                  <a:srgbClr val="003366"/>
                </a:solidFill>
                <a:latin typeface="Arial Narrow"/>
              </a:rPr>
              <a:t>С годините тя се разраства. Свои произведения добавят в нея свързаните с града Димитър Гюдженов, Hикoлa Кожухаров, Кипро Николов, Васил Костакиев, Николай Евров и редица художници от страната.</a:t>
            </a: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6666"/>
                </a:solidFill>
                <a:latin typeface="Megen Rus"/>
              </a:rPr>
              <a:t>ХУДОЖЕСТВЕНА ГАЛЕРИЯ</a:t>
            </a:r>
            <a:br>
              <a:rPr sz="2400"/>
            </a:br>
            <a:r>
              <a:rPr b="1" i="1" lang="bg-BG" sz="2400" spc="-1" strike="noStrike">
                <a:solidFill>
                  <a:srgbClr val="006666"/>
                </a:solidFill>
                <a:latin typeface="Megen Rus"/>
              </a:rPr>
              <a:t> СТАРА ЗАГОР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3366"/>
                </a:solidFill>
                <a:latin typeface="Arial"/>
              </a:rPr>
              <a:t>До 1959 година се води като отдел на Историческия музей, след което е обявена за самостоятелна градска художествена галерия. </a:t>
            </a:r>
            <a:br>
              <a:rPr sz="2800"/>
            </a:br>
            <a:r>
              <a:rPr b="1" i="1" lang="bg-BG" sz="2800" spc="-1" strike="noStrike">
                <a:solidFill>
                  <a:srgbClr val="003366"/>
                </a:solidFill>
                <a:latin typeface="Arial"/>
              </a:rPr>
              <a:t>В над деветдесетгодишната си история Старозагорската художествена галерия е организирала повече от хиляда изложби и експозиции, част от които са гостували на галериите в страната, кaктo и на галерии в Чехия, Португалия, Великобритания, Русия, Босна и Херцеговина, Словакия, Индия, Сърбия, Германия.</a:t>
            </a: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merican-Uncial-Normal"/>
              </a:rPr>
              <a:t>M</a:t>
            </a:r>
            <a:r>
              <a:rPr b="0" lang="bg-BG" sz="3200" spc="-1" strike="noStrike">
                <a:solidFill>
                  <a:srgbClr val="006666"/>
                </a:solidFill>
                <a:latin typeface="American-Uncial-Normal"/>
              </a:rPr>
              <a:t>арио Жеков</a:t>
            </a:r>
            <a:r>
              <a:rPr b="0" lang="bg-BG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1" i="1" lang="bg-BG" sz="1800" spc="-1" strike="noStrike">
                <a:solidFill>
                  <a:srgbClr val="006666"/>
                </a:solidFill>
                <a:latin typeface="Arial"/>
              </a:rPr>
              <a:t>1898 – 1955</a:t>
            </a: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2349000"/>
            <a:ext cx="37753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Името му е Марин Жеков Тодоров. Живее 57 години. Две трети от тях преминават в пътуване и творчество. Създава стотици картини и остава сред четирите най-големи майстори на морския пейзаж. Десетилетия наред името му е по-известно в чужбина отколкото в България. Съдбата на Марио Жеков е изцяло свързана с изкуството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Роден на 16.10.1898 г. в Стара Загора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Още в ранните му творби техниката му на живописец е завидна, а усещането за светлина, въздух и пространство - впечатляващо. Обича залеза - мистиката на неговите силуети и дългите сенки. Животът му е в живописта, там сред природата, където намира видимия образ на своите чувства. На фона на десетките талантливи художници влюбени в природата, малцина са ония - усетилите духа на морето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Създава десетки платна и акварели. В тях има и усещането за вода и мирис на море, заспалите в сянка селца и изпепеляващата светлина.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Умира на 03.08.1955 г. в София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Стотици, хиляди художници рисуват морето. Разбрали са го малко: Александър Мутафов, Марио Жеков, Христо Каварналиев, Йордан Кювлиев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3366"/>
                </a:solidFill>
                <a:latin typeface="Arial"/>
              </a:rPr>
              <a:t>Д-р Марин Добрев - изкуствовед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merican-Uncial-Normal"/>
              </a:rPr>
              <a:t>M</a:t>
            </a:r>
            <a:r>
              <a:rPr b="0" lang="bg-BG" sz="3600" spc="-1" strike="noStrike">
                <a:solidFill>
                  <a:srgbClr val="006666"/>
                </a:solidFill>
                <a:latin typeface="American-Uncial-Normal"/>
              </a:rPr>
              <a:t>арио Жеков</a:t>
            </a:r>
            <a:r>
              <a:rPr b="0" lang="bg-BG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r>
              <a:rPr b="1" i="1" lang="bg-BG" sz="2000" spc="-1" strike="noStrike">
                <a:solidFill>
                  <a:srgbClr val="006666"/>
                </a:solidFill>
                <a:latin typeface="Arial"/>
              </a:rPr>
              <a:t>1898 – 1955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rcRect l="0" t="0" r="4429" b="0"/>
          <a:stretch/>
        </p:blipFill>
        <p:spPr>
          <a:xfrm>
            <a:off x="2936880" y="2859120"/>
            <a:ext cx="2571840" cy="18288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1576440" cy="21445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5940360" y="1484280"/>
            <a:ext cx="1930320" cy="25923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4284720" y="4221000"/>
            <a:ext cx="3095640" cy="23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Megen Rus"/>
              </a:rPr>
              <a:t>АНТОН МИТОВ</a:t>
            </a:r>
            <a:br>
              <a:rPr sz="2400"/>
            </a:br>
            <a:r>
              <a:rPr b="0" lang="bg-BG" sz="2000" spc="-1" strike="noStrike">
                <a:solidFill>
                  <a:srgbClr val="ffffff"/>
                </a:solidFill>
                <a:latin typeface="Garamondcond-Bold-Italic"/>
              </a:rPr>
              <a:t>1862-193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bg-BG" sz="1600" spc="-1" strike="noStrike">
                <a:solidFill>
                  <a:srgbClr val="ffffff"/>
                </a:solidFill>
                <a:latin typeface="Arial Narrow"/>
              </a:rPr>
              <a:t>Живописец, художествен критик и историк на изкуството. Роден в Ст. Загора на 01.04.1862 г. Завършва живопис във Флоренция. През годините 1885-1890 работи в Пловдив. Един от основателите на Дружеството за поддържане на изкуството в България. Работата му като художник обхваща почти всички жанрове и техники на живописта. Рисува битови сцени, икони и стенописи, илюстрира книги и др. Автор на История на изкуствата в осем части. Умира в София през 1930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00720" y="3594240"/>
            <a:ext cx="4032000" cy="24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877080" y="333360"/>
            <a:ext cx="1942920" cy="33336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4572000" y="3684600"/>
            <a:ext cx="3672000" cy="29462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cc"/>
                </a:solidFill>
                <a:latin typeface="American-Uncial-Normal"/>
              </a:rPr>
              <a:t>Никола Кожухаров </a:t>
            </a:r>
            <a:br>
              <a:rPr sz="4400"/>
            </a:b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1892 – 1971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2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ffffff"/>
                </a:solidFill>
                <a:latin typeface="Arial Narrow"/>
              </a:rPr>
              <a:t>Роден на 11.01.1892г. в Казанлъ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ffffff"/>
                </a:solidFill>
                <a:latin typeface="Arial Narrow"/>
              </a:rPr>
              <a:t>Завършва живопис в Художествената академия - София при проф. И. Мърквичка и проф. Ц. Тодоров през 191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ffffff"/>
                </a:solidFill>
                <a:latin typeface="Arial Narrow"/>
              </a:rPr>
              <a:t>Специализира в Академията за изящни изкуства в Париж при проф. Фернан Кормон през 191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ffffff"/>
                </a:solidFill>
                <a:latin typeface="Arial Narrow"/>
              </a:rPr>
              <a:t>Представител на символизма в българското изкуство. Един от основоположниците на баталния и историческия жанр в българското изку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ffffff"/>
                </a:solidFill>
                <a:latin typeface="Arial Narrow"/>
              </a:rPr>
              <a:t>Умира на 01.04.1971 г. в София.</a:t>
            </a:r>
            <a:r>
              <a:rPr b="0" lang="bg-BG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900" spc="-1" strike="noStrike">
                <a:solidFill>
                  <a:srgbClr val="ffffff"/>
                </a:solidFill>
                <a:latin typeface="American-Uncial-Normal"/>
              </a:rPr>
              <a:t>Димитър Караджов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900"/>
            </a:br>
            <a:r>
              <a:rPr b="0" i="1" lang="bg-BG" sz="2400" spc="-1" strike="noStrike">
                <a:solidFill>
                  <a:srgbClr val="ffffff"/>
                </a:solidFill>
                <a:latin typeface="Arial"/>
              </a:rPr>
              <a:t>1907 – 2000</a:t>
            </a:r>
            <a:r>
              <a:rPr b="1" lang="bg-BG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90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Роден е на 31 юли 1907 г. в Стара Загора. От 1924 до 1930 г. учи живопис при проф. Стефан Иванов и проф. Борис Митов в Държавната художествена академия. През 1931 г. е назначен за преподавател по рисуване в Първа старозагорска гимназия. През 1940 е назначен за преподавател, а през 1943 г. - за заместник-директор на Старозагорската девическа гимназия. Участва в основаването на Дружеството на художниците в града. От 1949 до 1962 г. е преподавател в Института за начални учители и в Педагогическото училище в Стара Загор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През 1993 г. е удостоен със званието “Почетен гражданин на Стара Загора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Стихосбирката му “Отломки от неизграденото” излиза през 1995 г., а през 2003 излиза от печат подготвената приживе книга "Цветя в огледалото" - стихотворения от френски, немски и руски поети, преведени от Димитър Карадж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На 13 април 2000 г. Стара Загора се сбогува с нег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Живописното творчество на Димитър Караджов е посветено на пейзажа, натюрморта и портрета. Голяма част от картините му са пряко свързани с родния град.</a:t>
            </a:r>
            <a:r>
              <a:rPr b="0" lang="bg-BG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330696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merican-Uncial-Normal"/>
              </a:rPr>
              <a:t>ДИМИТЪР ГЮДЖЕНОВ</a:t>
            </a:r>
            <a:br>
              <a:rPr sz="4400"/>
            </a:b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1891-197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066920" y="1341000"/>
            <a:ext cx="4537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Роден на 26.01.1891г.в Стара Заго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Проф. </a:t>
            </a:r>
            <a:r>
              <a:rPr b="1" i="1" lang="bg-BG" sz="1400" spc="-1" strike="noStrike">
                <a:solidFill>
                  <a:srgbClr val="ffffff"/>
                </a:solidFill>
                <a:latin typeface="Arial"/>
              </a:rPr>
              <a:t>Димитър Гюдженов</a:t>
            </a: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 е български художник, известен със своите картини на военна и </a:t>
            </a:r>
            <a:r>
              <a:rPr b="1" i="1" lang="bg-BG" sz="1400" spc="-1" strike="noStrike">
                <a:solidFill>
                  <a:srgbClr val="ffffff"/>
                </a:solidFill>
                <a:latin typeface="Arial"/>
              </a:rPr>
              <a:t>историческа</a:t>
            </a: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 тематика, често използвани за илюстрации в енциклопедии и учебници по </a:t>
            </a:r>
            <a:r>
              <a:rPr b="1" i="1" lang="bg-BG" sz="1400" spc="-1" strike="noStrike">
                <a:solidFill>
                  <a:srgbClr val="ffffff"/>
                </a:solidFill>
                <a:latin typeface="Arial"/>
              </a:rPr>
              <a:t>българска история</a:t>
            </a: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През 1959 г. на </a:t>
            </a:r>
            <a:r>
              <a:rPr b="0" i="1" lang="bg-BG" sz="1400" spc="-1" strike="noStrike" u="sng">
                <a:solidFill>
                  <a:srgbClr val="ffffcc"/>
                </a:solidFill>
                <a:uFillTx/>
                <a:latin typeface="Arial"/>
              </a:rPr>
              <a:t>Димитър Гюдженов</a:t>
            </a:r>
            <a:r>
              <a:rPr b="0" i="1" lang="bg-BG" sz="1400" spc="-1" strike="noStrike">
                <a:solidFill>
                  <a:srgbClr val="ffffff"/>
                </a:solidFill>
                <a:latin typeface="Arial"/>
              </a:rPr>
              <a:t> и проф. Никола Кожухаров е поверено изписването на старозагорската църква„Свети Димитър“.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403280" y="4653000"/>
            <a:ext cx="3095640" cy="20588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943000" cy="30477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5003640" y="4005360"/>
            <a:ext cx="35276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5:10:17Z</dcterms:created>
  <dc:creator>None</dc:creator>
  <dc:description/>
  <dc:language>en-US</dc:language>
  <cp:lastModifiedBy>Sempron</cp:lastModifiedBy>
  <dcterms:modified xsi:type="dcterms:W3CDTF">2009-08-14T21:49:50Z</dcterms:modified>
  <cp:revision>17</cp:revision>
  <dc:subject/>
  <dc:title>Slide 1</dc:title>
</cp:coreProperties>
</file>