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DD2-5679-4E81-BD69-ED7BD675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F62-4D58-4536-B3D9-E2FFB85D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255-C79D-4F60-BF28-090F6F1A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7A1-BC34-4A1D-AD68-7C56ED87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7E5A-8F06-4A4C-8C67-830708E0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31F9-C098-45E4-BA42-8F53A50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724-D835-4557-AFED-ABB4B07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EF58-D8E4-4792-8D02-89A028C1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9A7-27DB-430F-8AFA-34E2276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967E-2E38-49D4-B574-043B42D6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DE0C-424A-4097-B251-DB23C1F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1D8-E5B3-4CAD-97D1-9186DDA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B50-1316-4FE1-A9A0-2C81AC4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0D5D-3B98-4129-824F-FFC81B4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4B59-11DD-4909-A6E7-394869F5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711B-18B2-45DF-AD8A-5C0161D7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6B8-1F67-4851-85F8-53723EB7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164-9509-4F2C-805B-33298A2F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61A-D0D0-4D9A-9AB8-52ECECF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5E8-738E-454C-AAA4-FE8EE4D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B26-D05E-438F-98C4-D3AE1A7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1D3-3E52-4F74-A135-AE473100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428-C5CD-4C0E-B786-6DBF5DD7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450-C1F6-404E-A858-7F9842BD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72C-C2D8-410E-AA07-A3FA41571601}" type="slidenum">
              <a:rPr b="0" lang="bg-BG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2810-DBED-46A3-BD04-99562774A312}" type="slidenum">
              <a:rPr b="0" lang="bg-BG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7.xml"/><Relationship Id="rId7" Type="http://schemas.openxmlformats.org/officeDocument/2006/relationships/image" Target="../media/image1.png"/><Relationship Id="rId8" Type="http://schemas.openxmlformats.org/officeDocument/2006/relationships/slide" Target="slide1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кология на Стара Заго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00240" y="1676160"/>
            <a:ext cx="3962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Стара Загора – важен икономически центъ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4" action="ppaction://hlinksldjump"/>
              </a:rPr>
              <a:t>Източник на обгазявания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6" action="ppaction://hlinksldjump"/>
              </a:rPr>
              <a:t>Гражданска реа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2400" spc="-1" strike="noStrike" u="sng">
                <a:solidFill>
                  <a:srgbClr val="a3c145"/>
                </a:solidFill>
                <a:uFillTx/>
                <a:latin typeface="Tahoma"/>
                <a:hlinkClick r:id="rId8" action="ppaction://hlinksldjump"/>
              </a:rPr>
              <a:t>Решаване на    проблемим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80880" y="1600200"/>
            <a:ext cx="3965760" cy="4498920"/>
            <a:chOff x="380880" y="1600200"/>
            <a:chExt cx="3965760" cy="4498920"/>
          </a:xfrm>
        </p:grpSpPr>
        <p:pic>
          <p:nvPicPr>
            <p:cNvPr id="386" name="" descr=""/>
            <p:cNvPicPr/>
            <p:nvPr/>
          </p:nvPicPr>
          <p:blipFill>
            <a:blip r:embed="rId9"/>
            <a:srcRect l="0" t="0" r="5450" b="0"/>
            <a:stretch/>
          </p:blipFill>
          <p:spPr>
            <a:xfrm>
              <a:off x="380880" y="1600200"/>
              <a:ext cx="396576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 txBox="1"/>
            <p:nvPr/>
          </p:nvSpPr>
          <p:spPr>
            <a:xfrm>
              <a:off x="380880" y="1600200"/>
              <a:ext cx="3965760" cy="44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0" r="7169" b="0"/>
          <a:stretch/>
        </p:blipFill>
        <p:spPr>
          <a:xfrm>
            <a:off x="1828800" y="457200"/>
            <a:ext cx="5486400" cy="33926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39254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зултатите показват, че замърсяването е от изхвърлен в атмосферата серен диоксид поради факта, че в ТЕЦ Марица Изток 2 не са монтирани достатъчно сероочистващи инсталации, а в Марица-3 такива липсв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Решаване на проблемит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1680" y="5334120"/>
            <a:ext cx="85406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скат нова сероочистка в ТЕЦ Марица изток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17520" y="1219320"/>
            <a:ext cx="6707160" cy="4038480"/>
            <a:chOff x="1217520" y="1219320"/>
            <a:chExt cx="6707160" cy="4038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rcRect l="0" t="0" r="3604" b="0"/>
            <a:stretch/>
          </p:blipFill>
          <p:spPr>
            <a:xfrm>
              <a:off x="1217520" y="1219320"/>
              <a:ext cx="6707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 txBox="1"/>
            <p:nvPr/>
          </p:nvSpPr>
          <p:spPr>
            <a:xfrm>
              <a:off x="1217520" y="1219320"/>
              <a:ext cx="6707160" cy="403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6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готвил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сара Веселинова Тончева – ІV кл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Частно средно общообразовател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училище “Нов век” – с. Кирилов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bg-BG" sz="3200" spc="-1" strike="noStrike">
                <a:solidFill>
                  <a:srgbClr val="ffffcc"/>
                </a:solidFill>
                <a:latin typeface="Tahoma"/>
              </a:rPr>
              <a:t>Стара Заг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ара Загора –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жен икономически центъ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град в Южна България, един от най-големите и модерни български градове, както и важен икономически центъ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център на най-голямата в страната регионална асоциация на общините - РАО Трак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ара Загора е от 4-те български града, имащи международен кредитен рейтин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ТОЧНИК НА ОБГАЗЯВАНИЯ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828800" y="1523880"/>
            <a:ext cx="5486400" cy="3200400"/>
            <a:chOff x="1828800" y="1523880"/>
            <a:chExt cx="5486400" cy="320040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0" t="0" r="1770" b="0"/>
            <a:stretch/>
          </p:blipFill>
          <p:spPr>
            <a:xfrm>
              <a:off x="1828800" y="1523880"/>
              <a:ext cx="54864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 txBox="1"/>
            <p:nvPr/>
          </p:nvSpPr>
          <p:spPr>
            <a:xfrm>
              <a:off x="1828800" y="15238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a3c145"/>
                </a:buClr>
                <a:buSzPct val="80000"/>
                <a:buFont typeface="Arial"/>
                <a:buChar char="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4952880"/>
            <a:ext cx="854064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бгазяванията на Стара Загора са серия от атмосферни явления във въздуха над Стара Загора, започнали на 2 юни 2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229600" y="63244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еднага след първото обгазяване на града като най-вероятен източник се посочва полигонъ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Военните отричат каквито и да е било действия, които могат да причинят атмосферни замърсява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ТОЧНИК НА ОБГАЗЯВАНИЯ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rcRect l="0" t="0" r="17881" b="0"/>
          <a:stretch/>
        </p:blipFill>
        <p:spPr>
          <a:xfrm>
            <a:off x="1065240" y="1295280"/>
            <a:ext cx="7013520" cy="3962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3360" y="5410080"/>
            <a:ext cx="85406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ъщността на явлението се изразява в силно замъглен въздух със специфична мир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rcRect l="0" t="0" r="4253" b="0"/>
          <a:stretch/>
        </p:blipFill>
        <p:spPr>
          <a:xfrm>
            <a:off x="2914560" y="646200"/>
            <a:ext cx="3314880" cy="2782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62120" y="3885840"/>
            <a:ext cx="85406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ве години преди обгазяването на региона в Стара Загора се провеждат граждански протести срещу унищожаването на бойни ракети на военния полигон в село Змейо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7848720" y="624852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ДА ВИДИШ ВЪЗДУХА, КОЙТО ДИШАШ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8540640" cy="4498920"/>
          </a:xfrm>
          <a:prstGeom prst="rect">
            <a:avLst/>
          </a:prstGeom>
          <a:ln w="0">
            <a:noFill/>
          </a:ln>
        </p:spPr>
      </p:pic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80773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0" r="1857" b="-11610"/>
          <a:stretch/>
        </p:blipFill>
        <p:spPr>
          <a:xfrm>
            <a:off x="533520" y="304920"/>
            <a:ext cx="8076960" cy="38862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лед установяването на подвижи станции на ХЕИ на ключови точки от Област Стара Загора за денонощен мониторинг на атмасферния въздух бе обявено, че източник на замърсяванията със серен диоксид е Енерги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1" lang="bg-BG" sz="24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комплекс Марица изт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>
            <a:hlinkClick r:id="" action="ppaction://hlinkshowjump?jump=firstslide"/>
          </p:cNvPr>
          <p:cNvSpPr/>
          <p:nvPr/>
        </p:nvSpPr>
        <p:spPr>
          <a:xfrm>
            <a:off x="79246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pron</cp:lastModifiedBy>
  <dcterms:modified xsi:type="dcterms:W3CDTF">2009-08-14T21:5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