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394-56A2-4CC1-8794-1EED1BCC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5C2-1446-470B-A925-D4FE514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E40-84C7-4645-A223-84B5B07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4AF-EBB3-43C8-8203-F0A899F0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AED-F26F-411F-8FF3-955F3D0E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08D8-22A7-43DB-B1E1-B91DBEB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6286-94C6-4F4A-B9AE-6AEEAB6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70A2-E907-4472-80CC-9CB7AF90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765-017A-4524-8425-BD1EDB76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0B73-DFA6-4CB9-8CBE-47649A0A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B49F-2751-46FB-88D2-C805FEF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A2E-66E2-49E3-8FEF-2E64DF8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033-1ADB-413C-B92F-DA35EFB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699-32C4-4F43-8CF9-1154FAF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394-1719-42D7-9AB0-95EA91C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E393-7920-4612-8BEE-907A93C4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C4B3-9521-4B57-BA98-4A1F8A3A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330-4BFC-452F-8F62-865E925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DE2-25E6-47E7-96B7-00666881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596-192B-472F-A7FD-FCF11F6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278-DB92-4333-9737-0EC62572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232-0DD0-469A-87CB-9D7E2386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D6B-686F-4014-A626-ACA53F9C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897-4A53-4718-9107-D239CBD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6CE2-516C-4616-B649-1CD6F2F9C036}" type="slidenum">
              <a:rPr b="0" lang="bg-BG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68C7-65D4-4260-9081-5D0E5E0D6F19}" type="slidenum">
              <a:rPr b="0" lang="bg-BG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image" Target="../media/image1.png"/><Relationship Id="rId8" Type="http://schemas.openxmlformats.org/officeDocument/2006/relationships/slide" Target="slide1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кология на Стара Заго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962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Стара Загора – важен икономически центъ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Източник на обгазявания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Гражданска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8" action="ppaction://hlinksldjump"/>
              </a:rPr>
              <a:t>Решаване на    проблемим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80880" y="1600200"/>
            <a:ext cx="3965760" cy="4498920"/>
            <a:chOff x="380880" y="1600200"/>
            <a:chExt cx="3965760" cy="4498920"/>
          </a:xfrm>
        </p:grpSpPr>
        <p:pic>
          <p:nvPicPr>
            <p:cNvPr id="386" name="" descr=""/>
            <p:cNvPicPr/>
            <p:nvPr/>
          </p:nvPicPr>
          <p:blipFill>
            <a:blip r:embed="rId9"/>
            <a:srcRect l="0" t="0" r="5450" b="0"/>
            <a:stretch/>
          </p:blipFill>
          <p:spPr>
            <a:xfrm>
              <a:off x="380880" y="1600200"/>
              <a:ext cx="396576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 txBox="1"/>
            <p:nvPr/>
          </p:nvSpPr>
          <p:spPr>
            <a:xfrm>
              <a:off x="380880" y="1600200"/>
              <a:ext cx="3965760" cy="44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0" r="7169" b="0"/>
          <a:stretch/>
        </p:blipFill>
        <p:spPr>
          <a:xfrm>
            <a:off x="1828800" y="457200"/>
            <a:ext cx="5486400" cy="3392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зултатите показват, че замърсяването е от изхвърлен в атмосферата серен диоксид поради факта, че в ТЕЦ Марица Изток 2 не са монтирани достатъчно сероочистващи инсталации, а в Марица-3 такива липсв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Решаване на проблемит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1680" y="5334120"/>
            <a:ext cx="854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скат нова сероочистка в ТЕЦ Марица изто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17520" y="1219320"/>
            <a:ext cx="6707160" cy="4038480"/>
            <a:chOff x="1217520" y="1219320"/>
            <a:chExt cx="6707160" cy="4038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rcRect l="0" t="0" r="3604" b="0"/>
            <a:stretch/>
          </p:blipFill>
          <p:spPr>
            <a:xfrm>
              <a:off x="1217520" y="1219320"/>
              <a:ext cx="6707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 txBox="1"/>
            <p:nvPr/>
          </p:nvSpPr>
          <p:spPr>
            <a:xfrm>
              <a:off x="1217520" y="1219320"/>
              <a:ext cx="6707160" cy="40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6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готвил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сара Веселинова Тончева – ІV кл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Частно средно общообразовател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училище “Нов век” – с. Кирилов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Стара Заг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ара Загора –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жен икономически центъ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град в Южна България, един от най-големите и модерни български градове, както и важен икономически центъ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център на най-голямата в страната регионална асоциация на общините - РАО Трак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от 4-те български града, имащи международен кредитен рейтин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ТОЧНИК НА ОБГАЗЯВАНИЯ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828800" y="1523880"/>
            <a:ext cx="5486400" cy="3200400"/>
            <a:chOff x="1828800" y="1523880"/>
            <a:chExt cx="5486400" cy="32004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0" t="0" r="1770" b="0"/>
            <a:stretch/>
          </p:blipFill>
          <p:spPr>
            <a:xfrm>
              <a:off x="1828800" y="1523880"/>
              <a:ext cx="5486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 txBox="1"/>
            <p:nvPr/>
          </p:nvSpPr>
          <p:spPr>
            <a:xfrm>
              <a:off x="1828800" y="15238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4952880"/>
            <a:ext cx="854064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бгазяванията на Стара Загора са серия от атмосферни явления във въздуха над Стара Загора, започнали на 2 юни 2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еднага след първото обгазяване на града като най-вероятен източник се посочва полигонъ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оенните отричат каквито и да е било действия, които могат да причинят атмосферни замърсява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ТОЧНИК НА ОБГАЗЯВАНИЯ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0" t="0" r="17881" b="0"/>
          <a:stretch/>
        </p:blipFill>
        <p:spPr>
          <a:xfrm>
            <a:off x="1065240" y="1295280"/>
            <a:ext cx="7013520" cy="3962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3360" y="5410080"/>
            <a:ext cx="85406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ъщността на явлението се изразява в силно замъглен въздух със специфична мир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rcRect l="0" t="0" r="4253" b="0"/>
          <a:stretch/>
        </p:blipFill>
        <p:spPr>
          <a:xfrm>
            <a:off x="2914560" y="646200"/>
            <a:ext cx="3314880" cy="2782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8540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ве години преди обгазяването на региона в Стара Загора се провеждат граждански протести срещу унищожаването на бойни ракети на военния полигон в село Змейо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7848720" y="624852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ДА ВИДИШ ВЪЗДУХА, КОЙТО ДИШАШ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8540640" cy="4498920"/>
          </a:xfrm>
          <a:prstGeom prst="rect">
            <a:avLst/>
          </a:prstGeom>
          <a:ln w="0">
            <a:noFill/>
          </a:ln>
        </p:spPr>
      </p:pic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80773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0" r="1857" b="-11610"/>
          <a:stretch/>
        </p:blipFill>
        <p:spPr>
          <a:xfrm>
            <a:off x="533520" y="304920"/>
            <a:ext cx="8076960" cy="38862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лед установяването на подвижи станции на ХЕИ на ключови точки от Област Стара Загора за денонощен мониторинг на атмасферния въздух бе обявено, че източник на замърсяванията със серен диоксид е Енерги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комплекс Марица из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pron</cp:lastModifiedBy>
  <dcterms:modified xsi:type="dcterms:W3CDTF">2009-08-14T21:5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